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CA2-08E1-4B6A-8BBB-A272D6EA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08A-5CAF-471C-BFB4-8D45B54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DDA-4A13-4414-A262-74AF5473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ADF-D1BB-4A41-8EBC-F2D07349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222-1726-4788-9A5B-7957BDE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A05-248D-4778-B6FE-3E6D6A3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085-61F1-486E-BC0E-5DD57F1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F62-9544-4CAC-B314-35896099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4DC-E6EB-4550-A9A2-D80E7BE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381-F8E6-4FD6-8F7B-9BBC4CE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FE1-0417-4CC4-B206-4BAC8F5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3AC-EE4E-4A4F-83E8-F81511C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073-C4D9-4749-B2B1-A610BBF279C6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D212-581A-4A53-B772-89426DE3761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143820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ndes környezetben 3 szobás családi ház el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333-33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.</dc:creator>
  <dc:description/>
  <dc:language>en-US</dc:language>
  <cp:lastModifiedBy>.</cp:lastModifiedBy>
  <dcterms:modified xsi:type="dcterms:W3CDTF">2003-05-24T21:13:43Z</dcterms:modified>
  <cp:revision>8</cp:revision>
  <dc:subject/>
  <dc:title>PowerPoint bemutató</dc:title>
</cp:coreProperties>
</file>