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307-EEF6-400D-B81C-9903A917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EABA-1CB4-4715-9D01-E44BC0AA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E34-5021-40B5-B4B8-6E82729F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BFE-FD5D-4B73-95AC-692C9122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ACE-5689-464F-9D2D-3A5275D1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DB9-A532-4D9A-9632-0A0C1266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C3D-C736-4717-A4F2-ACC537C5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6D5-D83D-4CAA-AE10-F3514117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582-24C2-4E09-9ADD-BB698956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79A-3EFE-407C-9520-3BECC538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E55-C165-4937-B5A4-88FD28D5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1DCE-9BC9-4F44-A059-89F6C2AF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C081-40E3-4344-9226-23A36C3FF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öld" descr=""/>
          <p:cNvPicPr/>
          <p:nvPr/>
        </p:nvPicPr>
        <p:blipFill>
          <a:blip r:embed="rId1"/>
          <a:stretch/>
        </p:blipFill>
        <p:spPr>
          <a:xfrm>
            <a:off x="3336840" y="2193840"/>
            <a:ext cx="24685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laton" descr=""/>
          <p:cNvPicPr/>
          <p:nvPr/>
        </p:nvPicPr>
        <p:blipFill>
          <a:blip r:embed="rId1"/>
          <a:stretch/>
        </p:blipFill>
        <p:spPr>
          <a:xfrm>
            <a:off x="2965320" y="2324160"/>
            <a:ext cx="3213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19:51:07Z</dcterms:created>
  <dc:creator>.</dc:creator>
  <dc:description/>
  <dc:language>en-US</dc:language>
  <cp:lastModifiedBy>.</cp:lastModifiedBy>
  <dcterms:modified xsi:type="dcterms:W3CDTF">2003-05-26T21:25:25Z</dcterms:modified>
  <cp:revision>2</cp:revision>
  <dc:subject/>
  <dc:title>PowerPoint bemutató</dc:title>
</cp:coreProperties>
</file>