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349-3B8E-4BA5-831A-9A31B15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178-6B98-4B21-8712-1190A1B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B87-51B4-41CC-98AD-52A3CAB9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7D1-85AD-4595-AE34-C1C34131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899-62FD-4794-B04F-E4BF077C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786-2FB8-40BF-83C9-0E54EF00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97E-7ECB-40D5-BD01-1DEB5014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81A-895D-4CB0-8FCA-FEBA34F6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1C3-B1EC-484B-A69E-1D52BBB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BA2-9670-4325-9C86-F0E3372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B22-143C-41AF-8CEA-03B5774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465-C617-4438-BE5F-162573B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77E-65D5-4C41-B3D7-108DF9AE4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4591080"/>
            <a:ext cx="640080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105000"/>
            <a:ext cx="640080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933480"/>
            <a:ext cx="640080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7360" y="2757600"/>
            <a:ext cx="6131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.</dc:creator>
  <dc:description/>
  <dc:language>en-US</dc:language>
  <cp:lastModifiedBy>.</cp:lastModifiedBy>
  <dcterms:modified xsi:type="dcterms:W3CDTF">2003-05-24T21:26:15Z</dcterms:modified>
  <cp:revision>7</cp:revision>
  <dc:subject/>
  <dc:title>PowerPoint bemutató</dc:title>
</cp:coreProperties>
</file>