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EEEB-555D-4835-BC7F-B561F0A57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56AA-3588-4B5A-88E7-B6404FC44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46D3-58A0-4211-A471-7774DD3EE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7EDC-F391-4342-BBC1-322837ACD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92D6-07DD-48D0-BDC8-3EFD8C752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141E-CF0B-4CC1-BBC2-3720CAAF6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E3A3-1CEA-4BD3-960A-DCC3F7F11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2AFC-8E27-4F38-9B4B-5E63C30D2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AC51-875C-40DF-94B8-BAE0BD584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6B04-4D85-4185-B04C-A58FE92FB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567F-05F8-43E4-9EF2-36A8D8423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8677-5F1A-49CE-AC6B-8F40B9C2A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78806-5895-4BC7-B76B-6948081AB9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98840" y="639720"/>
            <a:ext cx="7544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Times New Roman"/>
              </a:rPr>
              <a:t>XXX 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Times New Roman"/>
              </a:rPr>
              <a:t>Pi</a:t>
            </a:r>
            <a:r>
              <a:rPr b="0" lang="hu-HU" sz="18000" spc="-1" strike="noStrike">
                <a:solidFill>
                  <a:srgbClr val="000000"/>
                </a:solidFill>
                <a:latin typeface="Times New Roman"/>
              </a:rPr>
              <a:t>zzéria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47920" y="4591080"/>
            <a:ext cx="6095880" cy="3808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47920" y="3105000"/>
            <a:ext cx="6095880" cy="381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933480"/>
            <a:ext cx="6095880" cy="3808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752480" y="876240"/>
            <a:ext cx="56390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570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zzá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570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mbá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50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570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jtos, gombá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50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570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öldség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0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570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wai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00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570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logna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50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570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al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570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Ásványví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 Ft/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570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zénsavas üdít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 Ft/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570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stos üdít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 Ft/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570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szert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570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sztenyepür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570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gylaltkehe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0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90240" y="2754360"/>
            <a:ext cx="626688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65520"/>
                <a:tab algn="l" pos="4670280"/>
                <a:tab algn="l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yitvatartá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–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9.00–21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5520"/>
                <a:tab algn="l" pos="4670280"/>
                <a:tab algn="l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zo–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.00–23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5520"/>
                <a:tab algn="l" pos="4670280"/>
                <a:tab algn="l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ztalfoglalás és megrendelés: (10) 123-45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6T19:23:51Z</dcterms:created>
  <dc:creator>.</dc:creator>
  <dc:description/>
  <dc:language>en-US</dc:language>
  <cp:lastModifiedBy>.</cp:lastModifiedBy>
  <dcterms:modified xsi:type="dcterms:W3CDTF">2003-05-24T21:34:15Z</dcterms:modified>
  <cp:revision>6</cp:revision>
  <dc:subject/>
  <dc:title>PowerPoint bemutató</dc:title>
</cp:coreProperties>
</file>