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FE29-D038-41C7-85AF-70735D97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1BE0-B39C-42E0-9E93-614AC70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9D52-377F-4A60-A94B-73B76C30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E90B-A507-4E27-8641-FEE7C093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89EF-4525-4217-BBA1-B238C806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4D89-F9BE-4504-ABA6-8DE86980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01FB-9846-40A0-9A3C-22F3158C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CDB4-5651-48C0-BEA5-DAC15605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6429-FB59-4BD9-8675-8CF4193C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FCA6-CCD5-43E0-9472-C7354D81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2EDF-C6A9-418D-A3C7-4229EEE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A91D-D282-43FD-839F-653C443B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C8AA-6E57-4466-B85E-066F10722DC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792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3640" y="64976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780040" y="-14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600760" y="1774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-3600" y="649620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175320" y="63165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604360" y="63183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83920" y="774720"/>
            <a:ext cx="6176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Ha minket választ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lvisszük Önt a vilá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ármely részére!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szeresen szervezünk utazásokat a világ számos ország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900000">
            <a:off x="2514240" y="25909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320" y="2514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á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900000">
            <a:off x="4571640" y="20574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1280" y="19810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0000">
            <a:off x="1599840" y="44197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56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r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900000">
            <a:off x="3580920" y="38862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2360" y="380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900000">
            <a:off x="5028840" y="3124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900000">
            <a:off x="2819160" y="53341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600" y="525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900000">
            <a:off x="4876560" y="49528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7280" y="4876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örök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900000">
            <a:off x="6552720" y="40384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440" y="3962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900000">
            <a:off x="990360" y="1981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1080" y="1905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900000">
            <a:off x="6705360" y="23623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6800" y="2286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1628640"/>
            <a:ext cx="3598920" cy="359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1320" y="2101680"/>
            <a:ext cx="6383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8000 Székesfehérvá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Kalap u. 33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Tel.: (22) 111-11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28600"/>
            <a:ext cx="426744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1:27:27Z</dcterms:created>
  <dc:creator>Hallgato</dc:creator>
  <dc:description/>
  <dc:language>en-US</dc:language>
  <cp:lastModifiedBy>.</cp:lastModifiedBy>
  <dcterms:modified xsi:type="dcterms:W3CDTF">2003-05-24T21:45:47Z</dcterms:modified>
  <cp:revision>8</cp:revision>
  <dc:subject/>
  <dc:title>PowerPoint bemutató</dc:title>
</cp:coreProperties>
</file>