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BED5-CB28-4B5D-BD7E-FEE06AD9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D3A3-5E3D-4C87-BAB7-151B2B7B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6F28-E8E1-401A-84FB-7C93F3A4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C33E-5E6E-4D69-A862-95AD2FDA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9D432-B1A9-42E9-8F1B-676E47D7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93D9-5583-496E-A84F-6C66EB6A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C509-1511-4877-9338-DAA084BC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9F19-0F88-48C9-BD55-6801A0A6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E1FA-EFD5-48AD-B4FD-20F222D6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CA59-7182-4D6C-8E82-169E4641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CED4-F3CD-44D2-A7E6-61AB2A88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52C0D-130B-4A2A-989F-BBD8E470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F330-8102-4E79-BB4D-9FB854D728D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1792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3640" y="64976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780040" y="-14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600760" y="1774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-3600" y="649620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175320" y="63165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604360" y="63183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83920" y="774720"/>
            <a:ext cx="6176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Ha minket választ,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lvisszük Önt a vilá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ármely részére!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szeresen szervezünk utazásokat a világ számos országá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900000">
            <a:off x="2514240" y="25909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320" y="25146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á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900000">
            <a:off x="4571640" y="20574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1280" y="19810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a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900000">
            <a:off x="1599840" y="44197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560" y="43434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r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900000">
            <a:off x="3580920" y="38862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2360" y="3809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900000">
            <a:off x="5028840" y="3124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048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la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900000">
            <a:off x="2819160" y="53341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0600" y="5257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900000">
            <a:off x="4876560" y="49528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7280" y="4876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örök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900000">
            <a:off x="6552720" y="40384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440" y="39625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mbab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900000">
            <a:off x="990360" y="1981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1080" y="1905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900000">
            <a:off x="6705360" y="23623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6800" y="22860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örög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71640" y="1628640"/>
            <a:ext cx="3598920" cy="3598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81320" y="2101680"/>
            <a:ext cx="6383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8000 Székesfehérvá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Kalap u. 33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Tel.: (22) 111-11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1:27:27Z</dcterms:created>
  <dc:creator>Hallgato</dc:creator>
  <dc:description/>
  <dc:language>en-US</dc:language>
  <cp:lastModifiedBy>.</cp:lastModifiedBy>
  <dcterms:modified xsi:type="dcterms:W3CDTF">2003-03-10T17:56:40Z</dcterms:modified>
  <cp:revision>7</cp:revision>
  <dc:subject/>
  <dc:title>PowerPoint bemutató</dc:title>
</cp:coreProperties>
</file>