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909F-D39B-46D0-BC56-BAA642E2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DCBF-3F2D-4B1B-AB16-2E2713B8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3918-72D2-477A-9E3E-3E338469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1836-A8EC-4058-9681-535CD945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BA7D-538B-41CC-AFB8-4B940898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51A-6A04-4A7E-AD48-BD8BCB7F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824-4815-4D50-B818-49B61A91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5B77-812C-4BDF-AACF-6A7D4A28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93E-0C93-49F2-8C4D-B1A17EAE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1A6E-C0A7-4818-94DB-41C40021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C09-023D-417E-9437-AA5072F3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A3E-28C7-4C21-8250-02406C64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46D1-1A79-43CA-958A-614F96EE0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98400" y="2381400"/>
            <a:ext cx="774720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10:01:16Z</dcterms:created>
  <dc:creator>Hallgato</dc:creator>
  <dc:description/>
  <dc:language>en-US</dc:language>
  <cp:lastModifiedBy>Hallgato</cp:lastModifiedBy>
  <dcterms:modified xsi:type="dcterms:W3CDTF">2003-03-12T10:16:40Z</dcterms:modified>
  <cp:revision>1</cp:revision>
  <dc:subject/>
  <dc:title>PowerPoint bemutató</dc:title>
</cp:coreProperties>
</file>