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5967-70F0-46BD-83F1-1767CEDD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A109-FE48-4FE7-B118-F3EFEBBB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4303-018B-4939-9738-015EEDFC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A8F0-4827-43B4-A16B-030D49791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ED97-1A49-4967-B68F-0C8C4337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AD61-4F5E-4623-99DE-0F185366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C3A9-4D0A-45E5-B13B-9D1CFD9F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0E77-854C-4B3F-9AE2-7E8AF921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C4E4-1A2A-4837-AEDF-488C1374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9C14-AA15-41F0-B183-848191C1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633F-3E8A-4A41-8A72-11013830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32B0-8829-4EC0-AA32-B115479A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277480" cy="611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2138-8D4C-407B-AAEC-903A3D6C3808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z XXX-Komplex szolgáltatóház tevékenységi köre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Adótanácsad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Befektetési tanácsad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Egyéni vállalkozók, társaságok könyvvit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Jogi ügyintéz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Ingatlanközvetí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Nyomdai szolgálta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Szöveg- és kiadványszerkesz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Rendezvények, konferenciák lebonyolí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Reklám- és marketingtevékeny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Utazási ir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Speciális egyéni szolgálta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A Szolgáltatóház bevétel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-ben a főbb tevékenységekbő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Szolgáltatóház partnere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23:21:36Z</dcterms:created>
  <dc:creator>.</dc:creator>
  <dc:description/>
  <dc:language>en-US</dc:language>
  <cp:lastModifiedBy>.</cp:lastModifiedBy>
  <dcterms:modified xsi:type="dcterms:W3CDTF">2003-05-24T22:03:57Z</dcterms:modified>
  <cp:revision>8</cp:revision>
  <dc:subject/>
  <dc:title>Az XXX-Komplex szolgáltatóház tevékenységi körei</dc:title>
</cp:coreProperties>
</file>