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57E-3BCF-49F3-B0C2-A1EA066F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B3B-583E-48C9-8CF3-5813D7AC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CCE-E701-4513-A560-08756E63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48B-0426-42FF-8F9F-3A0BE7E3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00D-43D4-4389-B7C6-D6B24F90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AA1-E810-47FA-AFC8-24459CDF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7D1-8F0C-4E4C-9AA2-38E3D483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922-A0AC-4163-B8E1-6004FDE8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12F-98CE-4DDD-8FED-FF38FDF6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9C9-3980-4779-AB11-A21AEB4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E13-ECAD-4EF6-A090-78D1545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D83-C41D-4BF5-A270-F25C318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277480" cy="611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6BD5-7B97-48DE-93EC-6432827A51D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z XXX-Komplex szolgáltatóház tevékenységi kö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Ado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Befektetsi 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Egyéni válalkozók, társaságok könyvi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Jogi ügyinté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Ingatlanközvet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Nyomdai 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Szöveg- és kiadványszekr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Rendezvények, konferenciák lebonyoli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Reklám- és marketingtevéken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Utazásiir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Speciális egyéni szogl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Szolgáltatóház bevétel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-ben a főbb tevékenységekbő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zolgáltatóház partne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21:36Z</dcterms:created>
  <dc:creator>.</dc:creator>
  <dc:description/>
  <dc:language>en-US</dc:language>
  <cp:lastModifiedBy>.</cp:lastModifiedBy>
  <dcterms:modified xsi:type="dcterms:W3CDTF">2003-05-24T22:05:54Z</dcterms:modified>
  <cp:revision>10</cp:revision>
  <dc:subject/>
  <dc:title>Az XXX-Komplex szolgáltatóház tevékenységi körei</dc:title>
</cp:coreProperties>
</file>