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34D-5EBB-4C44-B4A2-2FCC5103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04B-B4D5-4358-AB61-0CB3A52C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081-AEF3-4A07-A09B-CC4B515B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6E4-C17C-442B-9C8B-CA6AE035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362-21DE-45F1-BFD3-AC00C753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A670-B290-4CC1-BAFE-BF8CC14A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3E3-6F50-4726-9074-15D2E2F4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4996-630B-4675-BE9C-488090D3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4D0-8A9D-43E0-A69F-AA53C045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E68-2613-4CCD-BF46-2637E7C2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0DF-5422-4C56-A76F-DCDCBA7E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1B6-D8FB-4B7B-A486-E20D2116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6CFF-2DAF-4C41-BE1A-1FA62F8EFC7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680" y="571680"/>
            <a:ext cx="8001000" cy="5715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5-ben alakultunk meg mint adótanácsadó iroda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A tevékenységi körünk  száma 1997-re elérte az 5-öt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8-ban új épületbe költöztünk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Az új sokszorosító üzembe helyezésével munkatársaink száma 30%-kal nőtt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8 végére új számítógépeket vásároltunk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9-ben nyitottuk meg utazási irodánkat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A Ház fejlődése öt év alat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6T09:50:22Z</dcterms:created>
  <dc:creator>.</dc:creator>
  <dc:description/>
  <dc:language>en-US</dc:language>
  <cp:lastModifiedBy>.</cp:lastModifiedBy>
  <dcterms:modified xsi:type="dcterms:W3CDTF">2003-05-24T22:14:03Z</dcterms:modified>
  <cp:revision>5</cp:revision>
  <dc:subject/>
  <dc:title>PowerPoint bemutató</dc:title>
</cp:coreProperties>
</file>