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30E1-0CA6-4288-A1E8-76EC854B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CF4-0F98-4D67-BBE2-E60BC720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B61-4B4F-4C09-AC07-5F29E7A5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B21-CF08-4614-A547-2CE4108E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85F-EB66-44DC-9F3E-4BDB642A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AEA-40CF-4E69-8EE9-0E057B8A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7E3-4A26-49EC-8A01-6A5AE7A8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0A5-7991-472B-87CD-27015C36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A8F-5F04-4195-9189-E0E3EDD0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B93-75BB-4EEB-A714-97FA067E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799-A037-4337-A177-F4786F50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23E-926C-4433-B2DB-7D6AA93F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9F7C-9DE1-44C3-9324-CE48E19EBFA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680" y="571680"/>
            <a:ext cx="8001000" cy="5715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5-ben alakultunk meg mint adótanácsadó iroda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A tevékenységi körünk  száma 1997-re elérte az 5-ö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8-ban új épületbe költöztünk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Az új sokszorosító üzembe helyezésével munkatársaink száma 30%-kal nőt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8 végére új számítógépeket vásároltunk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9-ben nyitottuk meg utazási irodánka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A Ház fejlődése öt év alat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6T09:50:22Z</dcterms:created>
  <dc:creator>.</dc:creator>
  <dc:description/>
  <dc:language>en-US</dc:language>
  <cp:lastModifiedBy>.</cp:lastModifiedBy>
  <dcterms:modified xsi:type="dcterms:W3CDTF">2003-05-24T22:23:48Z</dcterms:modified>
  <cp:revision>6</cp:revision>
  <dc:subject/>
  <dc:title>PowerPoint bemutató</dc:title>
</cp:coreProperties>
</file>