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5C95-BE51-4405-BF5E-79CFACE80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556-49BA-4094-A10D-7A5364E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978-3B9A-4177-A2D6-CD17ECFD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2D0-657B-4A33-B139-25BAF630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59F-D8CB-4F33-A2F6-F5D492DE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26B-2E77-41E2-AA76-AB775A3B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300-345C-4E0E-8D0D-16DC030F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6EB-FC1B-4190-81D1-FE4EC37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89D-C95A-46A2-84F5-238C978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F0A-9870-43D8-BF57-74F8CD4D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D73-3F81-4395-A409-5298651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6FD-04AB-43DB-8BDA-E48BD6A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0F7-7573-4318-AC52-666994E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8DD-14CA-472A-A795-B0FB168EC7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4800" y="5335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hajlékony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abványos PC lemezformátum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266688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371600"/>
                <a:gridCol w="1371600"/>
                <a:gridCol w="13716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tmér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4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.</dc:creator>
  <dc:description/>
  <dc:language>en-US</dc:language>
  <cp:lastModifiedBy>.</cp:lastModifiedBy>
  <dcterms:modified xsi:type="dcterms:W3CDTF">2003-05-24T22:38:02Z</dcterms:modified>
  <cp:revision>11</cp:revision>
  <dc:subject/>
  <dc:title>PowerPoint bemutató</dc:title>
</cp:coreProperties>
</file>