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572F-FFAE-4333-B838-978F90976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ávok koncentrikusan elhelyezkedő körök. A lemez kapacitása függ a sávok és a szektorok számától. Egy szektor mérete 512 by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176E-941D-4315-80FE-AF298206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BD8-7350-447C-806F-84D5B678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E2EA-250A-472D-82F8-152A4A3F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F94-CA45-40D9-82EB-65CFC352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8506-FE2E-4350-82A8-61B95AFA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794D-F7DB-4C79-BD4B-A0E15B57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7EFA-C42B-40F5-93D2-7237BA81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A34-7EE3-4E1F-A2FC-A5469905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3F93-A040-47DA-AD00-310853B8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CDB0-541A-49F7-96F5-7D1F7293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56C9-DAED-4C2D-A860-AF18A260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D60C-9025-4177-81DC-3D626F2E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43080"/>
            <a:ext cx="8305920" cy="6172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CD6F-DC71-4E40-8DF8-14DCD98CC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22760" y="2755800"/>
            <a:ext cx="3527280" cy="1281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zámítógép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ismerete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kezdőkne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81080" y="1447920"/>
            <a:ext cx="4318200" cy="4317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1808280"/>
            <a:ext cx="3598920" cy="359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2166840"/>
            <a:ext cx="2879640" cy="288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60720" y="2527200"/>
            <a:ext cx="2158920" cy="2159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1080" y="2887560"/>
            <a:ext cx="1440000" cy="144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05720" y="190512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áv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14640" y="2209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335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hajlékonylemez szerkez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zabványos PC lemezformátum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2057400"/>
          <a:ext cx="7772400" cy="2666880"/>
        </p:xfrm>
        <a:graphic>
          <a:graphicData uri="http://schemas.openxmlformats.org/drawingml/2006/table">
            <a:tbl>
              <a:tblPr/>
              <a:tblGrid>
                <a:gridCol w="2209680"/>
                <a:gridCol w="1447920"/>
                <a:gridCol w="1371600"/>
                <a:gridCol w="1371600"/>
                <a:gridCol w="137160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Átmér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5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5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át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á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pacit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 M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0 K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4 M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191120" y="5486400"/>
            <a:ext cx="304560" cy="304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4000" y="548640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avult formátumo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kompaktlemez (C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ípus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1:38:16Z</dcterms:created>
  <dc:creator>.</dc:creator>
  <dc:description/>
  <dc:language>en-US</dc:language>
  <cp:lastModifiedBy>.</cp:lastModifiedBy>
  <dcterms:modified xsi:type="dcterms:W3CDTF">2003-05-24T22:52:23Z</dcterms:modified>
  <cp:revision>12</cp:revision>
  <dc:subject/>
  <dc:title>PowerPoint bemutató</dc:title>
</cp:coreProperties>
</file>