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F838-544D-478C-B8E3-3F956F60D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ávok koncentrikusan elhelyezkedő körök. A lemez kapacitása függ a sávok és a szektorok számától. Egy szektor mérete 512 by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2851-8188-44B8-80E9-00C16ABF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48A6-1F7A-4881-8D99-3BF7EFE4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D666-B7BF-4215-AAF7-4EB91E9D4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9DE9-D899-4D33-87FC-C7A41E90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0310-F6D2-4EAF-88B2-FA6EE09C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A55D-3BD6-40CB-A820-B23DA0C7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5F4F-B4F1-4022-BE8F-E1E83492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CC59-E189-44E0-ACEA-AB326A83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7526-C7B2-42D1-9DB4-96B3A7EF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F11B-B01E-429A-89C9-A11F7B9A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B885-D246-49F8-8BA2-E3AE354F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DA32-789C-4721-9928-8115F759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9040" y="343080"/>
            <a:ext cx="8305920" cy="6172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A592-5A3E-4960-AD6F-F808A5B7C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400480" y="2639880"/>
            <a:ext cx="3527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zámítógép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ismerete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kezdőkne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572000"/>
            <a:ext cx="5029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2209680"/>
            <a:ext cx="5029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81080" y="1447920"/>
            <a:ext cx="4318200" cy="4317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40000" y="1808280"/>
            <a:ext cx="3598920" cy="3598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00360" y="2166840"/>
            <a:ext cx="2879640" cy="288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60720" y="2527200"/>
            <a:ext cx="2158920" cy="2159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1080" y="2887560"/>
            <a:ext cx="1440000" cy="144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190512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áv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714640" y="22096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4800" y="533520"/>
            <a:ext cx="37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 hajlékonylemez szerkez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zabványos PC lemezformátumo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2057400"/>
          <a:ext cx="7772400" cy="2666880"/>
        </p:xfrm>
        <a:graphic>
          <a:graphicData uri="http://schemas.openxmlformats.org/drawingml/2006/table">
            <a:tbl>
              <a:tblPr/>
              <a:tblGrid>
                <a:gridCol w="2209680"/>
                <a:gridCol w="1447920"/>
                <a:gridCol w="1371600"/>
                <a:gridCol w="1371600"/>
                <a:gridCol w="137160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Átmér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5"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5"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mát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á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pacit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 M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0 K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44 M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4191120" y="5486400"/>
            <a:ext cx="304560" cy="3049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4000" y="5486400"/>
            <a:ext cx="167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avult formátumo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kompaktlemez (CD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ípus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D-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D-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D-R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1:38:16Z</dcterms:created>
  <dc:creator>.</dc:creator>
  <dc:description/>
  <dc:language>en-US</dc:language>
  <cp:lastModifiedBy>.</cp:lastModifiedBy>
  <dcterms:modified xsi:type="dcterms:W3CDTF">2003-05-01T12:36:52Z</dcterms:modified>
  <cp:revision>13</cp:revision>
  <dc:subject/>
  <dc:title>PowerPoint bemutató</dc:title>
</cp:coreProperties>
</file>