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B69-2EA9-423E-B2F3-A99580CD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DC3-EC9B-46AC-9AE6-9E2DC6B5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EC5-2D69-4280-B376-8ACF4E62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8F4-38CF-492D-88EE-654444AE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0BAE-B725-4793-8178-9D374D6B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1013-B425-4E73-9E42-B1E372D1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9C33-A62F-46DB-8DD4-7820AC96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1410-00C1-4877-A3D3-3E40A095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A204-B603-4816-904F-F61BA27B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ED74-D7AD-4F6E-88C3-AF0628DD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9DE2-4BEB-4F43-8D42-23F8DA6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837-AA82-4E96-88F9-890BEC04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682-0764-451D-9EE3-32BC7063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E8B2-4143-4893-8EED-14931C3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5620-49CF-4BFF-88F7-F11836EB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B2E7-92FF-492A-B15F-DE7B2AE1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7BF-2885-4739-AE4D-22A65D95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0B1-520C-4B60-9793-9F3C726D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605-EF3B-4E93-867C-78752751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F05-57CD-4BA1-AE67-64078F1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067-080A-4462-9F17-91AAFA4D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5C4-B200-42FA-BE1A-F94FEAB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7B8-8673-490F-BBFF-5FFA27E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4E2-77F7-4B4F-AF8E-DFDC92D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CB6-CCC9-4120-83AC-265B2419371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9ACD-BFDA-439C-80F3-20F462F2F2B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518840"/>
            <a:ext cx="73803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 hajlékonylemez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zabványos lemezformátumo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13:52Z</dcterms:created>
  <dc:creator>.</dc:creator>
  <dc:description/>
  <dc:language>en-US</dc:language>
  <cp:lastModifiedBy>.</cp:lastModifiedBy>
  <dcterms:modified xsi:type="dcterms:W3CDTF">2003-05-24T23:03:33Z</dcterms:modified>
  <cp:revision>3</cp:revision>
  <dc:subject/>
  <dc:title>A hajlékonylemez</dc:title>
</cp:coreProperties>
</file>