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334500" cy="7048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D6C-A7E6-4A8E-9BDC-D6091E5A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9840" y="424548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1D3-8D21-420F-BE1C-E7545137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6568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FCC-6475-4601-BF10-B47CCE6C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8256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528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984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8256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6528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8EF-B747-4DB2-B230-9E479AAC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82D-6314-4F2C-AC9C-670BF269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55E-8035-45F8-9ADA-30570741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CFE-B073-408C-9756-D6B2F27C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321-FAC6-4228-AAAB-14D0F1B2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9840" y="626760"/>
            <a:ext cx="7934040" cy="54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B67-14DB-481D-9737-D332AEEB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9FD-A770-492E-B2E7-9AB07754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568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50B-4CB7-42ED-BD15-10CB8DA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4B2-4654-4099-A813-E36D2C01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9000"/>
          </a:bodyPr>
          <a:p>
            <a:pPr marL="347400" indent="-3474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8120" indent="-2307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1800" indent="-230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920" y="6421320"/>
            <a:ext cx="194472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26AF886-C82F-47EB-9A64-60321CF2689A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99840" y="6421320"/>
            <a:ext cx="295596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9520" y="6421320"/>
            <a:ext cx="194436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57E0C9D-4065-4992-9393-B64E3D4A019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3160" y="6578640"/>
            <a:ext cx="241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45240" y="6421320"/>
            <a:ext cx="1789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11760" y="6578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47560"/>
            <a:ext cx="933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265800"/>
            <a:ext cx="933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virág3" descr=""/>
          <p:cNvPicPr/>
          <p:nvPr/>
        </p:nvPicPr>
        <p:blipFill>
          <a:blip r:embed="rId2"/>
          <a:stretch/>
        </p:blipFill>
        <p:spPr>
          <a:xfrm>
            <a:off x="317808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2" name="virág3" descr=""/>
          <p:cNvPicPr/>
          <p:nvPr/>
        </p:nvPicPr>
        <p:blipFill>
          <a:blip r:embed="rId3"/>
          <a:stretch/>
        </p:blipFill>
        <p:spPr>
          <a:xfrm>
            <a:off x="382428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3" name="virág3" descr=""/>
          <p:cNvPicPr/>
          <p:nvPr/>
        </p:nvPicPr>
        <p:blipFill>
          <a:blip r:embed="rId4"/>
          <a:stretch/>
        </p:blipFill>
        <p:spPr>
          <a:xfrm>
            <a:off x="4473720" y="0"/>
            <a:ext cx="385560" cy="547560"/>
          </a:xfrm>
          <a:prstGeom prst="rect">
            <a:avLst/>
          </a:prstGeom>
          <a:ln w="0">
            <a:noFill/>
          </a:ln>
        </p:spPr>
      </p:pic>
      <p:pic>
        <p:nvPicPr>
          <p:cNvPr id="14" name="virág3" descr=""/>
          <p:cNvPicPr/>
          <p:nvPr/>
        </p:nvPicPr>
        <p:blipFill>
          <a:blip r:embed="rId5"/>
          <a:stretch/>
        </p:blipFill>
        <p:spPr>
          <a:xfrm>
            <a:off x="512136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5" name="virág3" descr=""/>
          <p:cNvPicPr/>
          <p:nvPr/>
        </p:nvPicPr>
        <p:blipFill>
          <a:blip r:embed="rId6"/>
          <a:stretch/>
        </p:blipFill>
        <p:spPr>
          <a:xfrm>
            <a:off x="5743440" y="0"/>
            <a:ext cx="38736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3280" y="1219320"/>
            <a:ext cx="44341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Vágott és cserepes virágok, trópusi növények,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virágkülönlegességek. Kaktuszok, pozsgások,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orchideák a legnagyobb választékban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rág2" descr=""/>
          <p:cNvPicPr/>
          <p:nvPr/>
        </p:nvPicPr>
        <p:blipFill>
          <a:blip r:embed="rId1"/>
          <a:stretch/>
        </p:blipFill>
        <p:spPr>
          <a:xfrm>
            <a:off x="6222960" y="2697120"/>
            <a:ext cx="1866960" cy="1652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6560" y="1219320"/>
            <a:ext cx="420084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spcBef>
                <a:spcPts val="2313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3700" spc="-1" strike="noStrike">
                <a:solidFill>
                  <a:srgbClr val="ffff00"/>
                </a:solidFill>
                <a:latin typeface="Times New Roman"/>
              </a:rPr>
              <a:t>Vállaljuk esküvői, ballagási csokrok, koszorúk elkészítését, rendezvényekhez virágdekoráció kivitelezését, növények kölcsönzésé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3280" y="704880"/>
            <a:ext cx="7778880" cy="4063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Címünk: 1261 Budapest, Kamilla u. 89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Telefon: 987-765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Nyitva tartás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H-P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19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SZ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V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ZÁRVA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01:18Z</dcterms:created>
  <dc:creator/>
  <dc:description/>
  <dc:language>en-US</dc:language>
  <cp:lastModifiedBy>.</cp:lastModifiedBy>
  <dcterms:modified xsi:type="dcterms:W3CDTF">2003-05-25T07:49:32Z</dcterms:modified>
  <cp:revision>18</cp:revision>
  <dc:subject/>
  <dc:title>16. feladat</dc:title>
</cp:coreProperties>
</file>