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5CB-D284-4151-91AB-6FBE99C1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3E9-FCDF-42DF-80D9-DDACC4DC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926-BCCD-4671-8473-AFCDF9E5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F00-36F7-4CBD-AA26-04BEE401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678-096E-4E89-A67E-52EB46B2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163-D579-4025-AE23-5A925DA3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71B-45C8-46D0-974C-8A1534C3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1FF-C399-485C-8AF7-94140848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2C1-3D7A-4E7E-A229-2530B770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56D-E6B7-4FF6-A240-3AFADC65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DA9-0E5D-4D5F-93D1-2BE44FA3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F34-1BE1-4CE5-98B3-2FC8F09C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ÁROSI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D074-1DA5-47C8-85A7-00E3802DDF92}" type="datetime">
              <a:rPr b="0" lang="en-US" sz="1400" spc="-1" strike="noStrike">
                <a:solidFill>
                  <a:srgbClr val="ffcc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1944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521A-A175-4DC0-B146-9803A05DA4C0}" type="slidenum">
              <a:rPr b="0" lang="en-US" sz="1400" spc="-1" strike="noStrike">
                <a:solidFill>
                  <a:srgbClr val="ffcc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oldalak 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talomjegy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V-mű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F23A5-5D4C-4DDD-A461-9A7912AE863E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árosi TV mai műs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, időjá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rosunk az elmúlt 10 évben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kumentum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e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éj leple alatt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erikai kr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C7D77-DC84-4A5F-ACB0-E4AE0C5D5941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városi, 3 szobás, gázfűtéses lakás eladó. Tel.: 111-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ürke perzsacicák eladók. Tel.: 222-2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ol nyelvből korrepetálást vállalok. Tel.: 333-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oda Favorit, megkímélt állapotban eladó. Tel.: 444-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D04918_" descr=""/>
          <p:cNvPicPr/>
          <p:nvPr/>
        </p:nvPicPr>
        <p:blipFill>
          <a:blip r:embed="rId1"/>
          <a:stretch/>
        </p:blipFill>
        <p:spPr>
          <a:xfrm>
            <a:off x="3162240" y="2038320"/>
            <a:ext cx="2819520" cy="277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5FAE1-5AFE-4345-8047-F56FCD65881F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E3685-F4F8-4EE7-AF52-E45699CA0ADF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1114E-5424-4E1F-B614-FBB6F075151F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ézettségünk az elmúlt hé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3D4E3-DD41-4D73-A8B6-6786F1E62A7C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49:37Z</dcterms:created>
  <dc:creator>.</dc:creator>
  <dc:description/>
  <dc:language>en-US</dc:language>
  <cp:lastModifiedBy>.</cp:lastModifiedBy>
  <dcterms:modified xsi:type="dcterms:W3CDTF">2003-05-25T08:01:06Z</dcterms:modified>
  <cp:revision>7</cp:revision>
  <dc:subject/>
  <dc:title>Az oldalak tartalma</dc:title>
</cp:coreProperties>
</file>