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8BB-D59A-471C-8A34-60078F7A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AAD-F9BD-4847-9CD2-53499DD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72F-3DE2-4787-BF97-A9BEC9D1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1BD-DAF2-4B3B-A5B5-A02856A7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2C6-3A64-43F1-87DA-19E3401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B6B-43D9-4D55-AF48-33D6F175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157-C573-40F1-B5B5-556DA83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75A-1EE0-4AF6-A9A7-40C6BF3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1BA-8A6A-41FE-9E67-EA1331D8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18F-4F1C-4A32-AEFC-0629C7D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6C7-BFCE-437F-B90E-0809C9D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3B6-EE4B-42BC-84BC-1CEC503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F89-468F-4B5F-8470-FCAFC7EDF97E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5D35-469A-43A4-A172-28B2DCF4A156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986D0-D0ED-465F-BCBE-431D44A76EE5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A368B-0419-4CE3-B962-1521FFED5E5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F6129-B935-4D76-8C37-78CACED8A91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252FC-97D0-4FB4-93EF-AB76D8E7DD6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AFA36-AF5D-41AB-BEE9-E155C4CE03D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43755-E9E8-4DD4-9E41-566DD145B0C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.</cp:lastModifiedBy>
  <dcterms:modified xsi:type="dcterms:W3CDTF">2003-03-25T14:20:11Z</dcterms:modified>
  <cp:revision>6</cp:revision>
  <dc:subject/>
  <dc:title>Az oldalak tartalma</dc:title>
</cp:coreProperties>
</file>