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52F1-D27A-4A69-BC05-32150BCC3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C1A5-F124-4122-9A0C-32E20DA70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CBFD-D70C-43BA-ABD5-D25C02C85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9DD8-5D68-4DDE-89E5-F4594BF20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71C8-CE58-4FC1-B995-388288410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00C7-6EA1-4EC2-9343-8F073C66F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F4CD-405A-48A9-9BA9-62408A472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7B1B-CBBB-45A9-BBF6-0EFEAFE2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9F4F-FB80-46AB-8556-0AB0C30D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C21A-353E-4AFC-9CA9-BD41FEB5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F5CA-59AA-4F3C-8701-4B480C04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A32F-8973-4AC1-9796-13BECA14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VÁROSI T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08660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7D82B-1C13-46CD-B3AB-4522C670CB4B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361944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C38B4-2EE9-4728-988C-014B8123079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z oldalak tartal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1 Tartalomjegyzé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2 TV-műs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3 Hirdet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4 Helyi hír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5 Hírek a nagyvilágbó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4406DF-221B-4697-9FCB-A97A995F7C19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rdet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városi, 3 szobás, gázfütéses lakás eladó. Tel.: 111-1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zürke perzsacicák eladók. Tel.: 222-2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ol nyelvből korrepetálást vállalok. Tel.: 333-33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oda Favorit, megkímélt állapotban eladó. Tel.: 444-44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A67F96-F7CA-4070-8107-DB3BF7FB6FBE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városi TV mai műso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51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7.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írek, időjár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51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7.2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árosunk az elmúlt 10 évben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kumentumfil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51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.0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ír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51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.1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klá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51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.2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efil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51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.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z éj leple alatt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merikai kri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B2D2B7-B07C-49E2-89A4-BCCE890C31E3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BD04918_" descr=""/>
          <p:cNvPicPr/>
          <p:nvPr/>
        </p:nvPicPr>
        <p:blipFill>
          <a:blip r:embed="rId1"/>
          <a:stretch/>
        </p:blipFill>
        <p:spPr>
          <a:xfrm>
            <a:off x="3162240" y="2038320"/>
            <a:ext cx="2819520" cy="27799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lyi hír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gnap városunkba látogatott a lengyel munkaüygi miniszter. A tiszteletére tartott fogadás után megtekintette városunk nevezetesége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héten elkészül az Fő-téri szobor rekonstrukciója. A munkálatokat Kő Pál szobrász végz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C4196B-B231-4706-A247-B2F5746BEA2A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írek a nagyvilágbó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F52CDD-48F5-40B5-A0FD-7637510BB362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ézettségünk az elmúlt hé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47D6BA-F75C-456F-B824-C82B410B7A74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3:49:37Z</dcterms:created>
  <dc:creator>.</dc:creator>
  <dc:description/>
  <dc:language>en-US</dc:language>
  <cp:lastModifiedBy>.</cp:lastModifiedBy>
  <dcterms:modified xsi:type="dcterms:W3CDTF">2003-05-25T08:37:34Z</dcterms:modified>
  <cp:revision>13</cp:revision>
  <dc:subject/>
  <dc:title>Az oldalak tartalma</dc:title>
</cp:coreProperties>
</file>