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5F47-9F34-430D-BC1A-C49CC6FC9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E61-307B-44E0-ADF9-E89FF1C6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864-F0DD-46DF-A08B-2AE24DA0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DD4-BE13-4325-8560-347D3A64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A41-5D45-4DDB-8415-330D84DA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539-58A7-4EBC-95F4-AEC5C43C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EC0-AD2E-43F7-ACD3-12B629EE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6EB-E93A-4E1B-810E-3B11E96F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BBA-564C-4219-A5C8-E52B7A45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F95-95AF-4300-9535-A41FA524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489-3EA2-4C65-BDA0-670D97A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9F7-989C-4404-A673-80002737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18C-AFA9-4292-A77A-5534505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832E-1642-4C81-B5BE-DFF509177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8911_" descr="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975_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1686_" descr="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.</dc:creator>
  <dc:description/>
  <dc:language>en-US</dc:language>
  <cp:lastModifiedBy>.</cp:lastModifiedBy>
  <dcterms:modified xsi:type="dcterms:W3CDTF">2003-03-25T17:01:23Z</dcterms:modified>
  <cp:revision>6</cp:revision>
  <dc:subject/>
  <dc:title>PowerPoint bemutató</dc:title>
</cp:coreProperties>
</file>