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AECF-2D7A-4E36-9096-74C27432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822-2506-4960-8F7E-B093C54A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F96-0FEE-42F7-A15F-CCF1643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0F6-D269-4DCA-ADFA-0C7915A0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0B5-0D47-4D13-B78D-0F7A6F90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0DF-BD16-4545-9B56-FDE08F46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490-E495-4453-B395-27CD3589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8DB-F6B6-48F2-A981-BEA690B3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69F-DDA8-4DC6-A5AE-BCB3A9C6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B92-16B0-47B3-9986-7B4CDE69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28A-3897-4622-A850-3BD82C5D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F30-4B85-4C23-9749-DF65D4D7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DA2-49CE-4055-A8F8-0EB28A1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A904-D8DE-432B-84A2-38F4FD28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8911_" descr="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975_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1686_" descr="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.</dc:creator>
  <dc:description/>
  <dc:language>en-US</dc:language>
  <cp:lastModifiedBy>.</cp:lastModifiedBy>
  <dcterms:modified xsi:type="dcterms:W3CDTF">2003-03-25T17:01:23Z</dcterms:modified>
  <cp:revision>6</cp:revision>
  <dc:subject/>
  <dc:title>PowerPoint bemutató</dc:title>
</cp:coreProperties>
</file>