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5F2B-1698-4ABB-8D5B-E8489F8A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FC66-A07F-4BCE-BEB5-3E14ED46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3BAF-FBD7-4307-8585-18A127F3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E8D5-949F-4AC6-81C7-8BAA3030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3B86-FDC5-4C71-A109-52692A4C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9688-C186-4B93-BBD3-82973FE8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DFB0-8A0D-4B7A-A803-53502607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7240-25DD-464B-B5DA-F2BD8143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11CC-FA12-454D-B42D-88E187C4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EEFF-A374-49C2-B56B-72AF8728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8710-44A1-43C4-BE2C-B2C04B39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D1C1-714F-478B-849D-011E443A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3DA3-58F4-4927-BA1D-3C6DEC74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8702-032A-49ED-826B-860C1FA8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B210-F4DD-4E28-B312-CEC5BE3B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ED33-6F28-4745-A373-A3CA182B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8221-0A5E-4EB3-AA5C-DCF0E66E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407E-D1F1-45B0-9EE1-0D8CE218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10B-4528-445E-8C24-8504F297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B812-871F-4C16-A8FE-D9FE34D9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A36E-19E4-48B8-A629-E32E213A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5B00-7C93-4ACB-8601-FEBC12E3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0C78-820C-468B-B825-2167EFE4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AF84-31B1-48BB-9257-90470F25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12720" y="549360"/>
            <a:ext cx="7916760" cy="5757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85A0-91FC-4F5A-BD48-6716E98C4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2720" y="549360"/>
            <a:ext cx="7916760" cy="5757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E511-AD36-4C88-9412-A67AED4A0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09480"/>
            <a:ext cx="77724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Részvénytársaságunk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irodaházak, raktárak, üzletközpontok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tervezésével és kivitelezésével foglalkozik. Sikeres üzletpolitikánk titka az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igényesség, gyorsaság és megbízhatóság.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Ezt bizonyítja, hogy megalakulásunk óta több mint 40 jelentős beruházást hajtottunk vég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Jegyezzen Ön is részvényünkbő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2362320"/>
          <a:ext cx="609624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362320"/>
                    <a:ext cx="609624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66960" y="2773440"/>
            <a:ext cx="720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66"/>
                </a:solidFill>
                <a:latin typeface="Times New Roman"/>
              </a:rPr>
              <a:t>További felvilágosításért hívja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66"/>
                </a:solidFill>
                <a:latin typeface="Times New Roman"/>
              </a:rPr>
              <a:t>999-9999-es telefonszámo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01:57:31Z</dcterms:created>
  <dc:creator/>
  <dc:description/>
  <dc:language>en-US</dc:language>
  <cp:lastModifiedBy>.</cp:lastModifiedBy>
  <dcterms:modified xsi:type="dcterms:W3CDTF">2003-06-03T18:38:42Z</dcterms:modified>
  <cp:revision>11</cp:revision>
  <dc:subject/>
  <dc:title>PowerPoint bemutató</dc:title>
</cp:coreProperties>
</file>