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873-FE30-4779-ACA2-91381721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BEDD-850C-4055-A895-772BF619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D10C-2E78-44D3-88D0-860D5C48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4879-8A48-42A8-84BC-6F00CEBF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2F10-3D6B-4D8B-BA8C-072E82E3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318A-D3B5-4E1D-A2DE-548CACB9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7556-51B0-4EF4-B380-49B291B5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8CA4-C6FD-42FC-B1A9-BAF090DE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C34C-7503-410F-9402-4CD46588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6E24-79F6-424E-819C-518B0D34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14DA-FDBF-4BB5-B6FC-77107736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FF3-A0EE-4C58-8CF5-D64CCF38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59AF-DA5D-45A3-94B5-B724D781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C893-EE3E-4BB1-985F-CE21E4A6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C744-E15D-4CA9-B9D4-1E8AF3EE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1C06-C2A5-4726-A5B5-D2B0C237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1FC1-B5C3-482D-BAAF-6C0A720B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8999-555D-4A91-A8AE-F9AC75C9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7F90-0C59-44FF-8BBB-8E9A6A5B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BB7-28D5-4D24-B203-81B130DE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5E3D-9466-4BE0-BC0E-E19133EA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059A-1E2E-43C4-A2AF-2101F968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082F-9EB1-4614-A315-73938136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DFB-4D9F-4CD0-A7FE-96D0E28B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2720" y="549360"/>
            <a:ext cx="7916760" cy="5757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45A3-547F-4771-A002-A25C99DFC2B7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2720" y="549360"/>
            <a:ext cx="7916760" cy="5757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339D-63F9-459A-986E-2986BC50680C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09480"/>
            <a:ext cx="7772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Részvénytársaságunk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irodaházak, raktárak, üzletközpontok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tervezésével és kivitelezésével foglalkozik. Sikeres üzletpolitikánk titka az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igényesség, gyorsaság és megbízhatóság.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Ezt bizonyítja, hogy megalakulásunk óta több mint 40 jelentős beruházást hajtottunk vég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Jegyezzen Ön is részvényünkbő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2362320"/>
          <a:ext cx="609624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62320"/>
                    <a:ext cx="609624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66960" y="2833560"/>
            <a:ext cx="720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66"/>
                </a:solidFill>
                <a:latin typeface="Times New Roman"/>
              </a:rPr>
              <a:t>További felvilágosításért hívja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66"/>
                </a:solidFill>
                <a:latin typeface="Times New Roman"/>
              </a:rPr>
              <a:t>999-9999-es telefonszámo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01:57:31Z</dcterms:created>
  <dc:creator/>
  <dc:description/>
  <dc:language>en-US</dc:language>
  <cp:lastModifiedBy>.</cp:lastModifiedBy>
  <dcterms:modified xsi:type="dcterms:W3CDTF">2003-05-26T19:44:00Z</dcterms:modified>
  <cp:revision>12</cp:revision>
  <dc:subject/>
  <dc:title>PowerPoint bemutató</dc:title>
</cp:coreProperties>
</file>