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037-3E0F-4DD9-9484-2E05F0DD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C78-ECDE-4CDC-927D-AF67BB94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40C-05B0-4982-AF62-FB1A457D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4C6-7A54-4042-84E6-F181C3E2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679-37E8-4ACF-B3F8-A8DAA406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4D7-C177-4EF3-9D5D-C65146F7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A9B-FE9E-4982-BB7D-BE8D54A1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602-CD0D-4E4D-A753-5888A510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A55-D2AB-4094-A65F-E68DCC91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85A-6C5E-4594-8C66-354DF0C4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B1E-075A-4888-9610-91E49F75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915-537F-42C6-88D3-4CAEFFA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CEDD-4A57-4D5C-80B6-5A0ECAE5FDF6}" type="slidenum">
              <a:rPr b="0" lang="en-US" sz="14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743200"/>
            <a:ext cx="304920" cy="30492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457200"/>
            <a:ext cx="609480" cy="60948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96080" y="2438280"/>
            <a:ext cx="1295640" cy="129564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447920" y="99072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09680" y="4495680"/>
            <a:ext cx="762120" cy="76212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867280" y="4343400"/>
            <a:ext cx="152640" cy="15228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295280" y="5486400"/>
            <a:ext cx="228600" cy="228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267080" y="51814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696080" y="5029200"/>
            <a:ext cx="304920" cy="30492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04920" y="304920"/>
            <a:ext cx="609480" cy="6094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Naprendszerünk bolygói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Neptunusz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4860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165,5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5,4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Merkúr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488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0,24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48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Vénusz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12104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0,62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35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Föld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12756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1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30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6794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1,88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24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142796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11,87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22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Szaturnusz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12000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29,62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9,6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Uránusz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5080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84,6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6,8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Plútó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230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251,9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4,7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59:50Z</dcterms:created>
  <dc:creator>.</dc:creator>
  <dc:description/>
  <dc:language>en-US</dc:language>
  <cp:lastModifiedBy>.</cp:lastModifiedBy>
  <dcterms:modified xsi:type="dcterms:W3CDTF">2003-05-25T11:40:01Z</dcterms:modified>
  <cp:revision>14</cp:revision>
  <dc:subject/>
  <dc:title>Naprendszerünk bolygói</dc:title>
</cp:coreProperties>
</file>