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2CD-CC6F-4E79-BBB9-89F1DA08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C98-6B06-471F-8EC1-2C4BC4DF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803-D1F9-408D-8A3C-AC8B57BC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563-030B-4E65-9FCC-51862E2F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CE29-4831-44DE-81DE-99951D0B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3079-ADA6-4674-A751-3FC445C7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19FB-CFE4-4C1B-BE65-7BDA6F25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68E9-181A-4D8F-B6E8-DB1DE985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5535-E65F-44C1-A239-83158AB6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A2F5-9BBB-4D98-8BC2-7B6FDA2A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EFC0-25D1-4451-A093-EB9844EE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7C8-007E-43E2-ACDB-8933A879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F50C-BB9D-4B78-B4FE-C3C81288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30EF-AF41-4A90-86E1-2A700058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5847-EFF7-42F2-B51E-3E3EB87B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0998-3D4F-45B3-A399-7234612F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E219-4EA5-4607-B63B-84FB3602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1EF-DDEB-4BD2-8B81-502CCD6E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1F2-2C74-439E-993B-F86404DF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023-7AC3-434B-AF08-87AE7CD7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C0D-3CF5-4336-9837-6357B9DB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B80-0DAE-4DDA-B305-D5BD9479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70E-5F7C-4F99-A416-AAE8397D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6BB-F3A8-4574-995F-4F7EFF47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E664-4D89-4056-9DB3-C47F048568B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1EF4-417F-474C-BF2B-CDEFA67C72F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aprendszerünk bolygó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út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23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251,9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4,7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rkú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488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0,24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48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é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Átmérője: 1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000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Keringési idő: 0,62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ebesség: 35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öl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12756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30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6794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,88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24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pi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142796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1,87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13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zatur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1200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29,62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9,6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rá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508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84,6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6,8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ptu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486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65,5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5,4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59:50Z</dcterms:created>
  <dc:creator>.</dc:creator>
  <dc:description/>
  <dc:language>en-US</dc:language>
  <cp:lastModifiedBy>.</cp:lastModifiedBy>
  <dcterms:modified xsi:type="dcterms:W3CDTF">2003-03-07T20:00:45Z</dcterms:modified>
  <cp:revision>14</cp:revision>
  <dc:subject/>
  <dc:title>Naprendszerünk bolygói</dc:title>
</cp:coreProperties>
</file>