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3C7-0D1D-4CCE-9754-B605A6A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529-ECA7-4719-B866-45813C33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EC-152F-4925-9393-7EEF0EAD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52A-2FEF-4E7C-86D1-97F73820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8C0-DDB1-4DEA-9EFC-751009B2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CF5-6A6C-4C1A-B0FF-2A212DC6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5C3-5166-4D25-AE26-A794C74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4E2-4249-40CC-A2DF-A97D50F7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064-3965-4744-B457-0C81344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055-568A-4FE4-AF6A-326B7E65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88C-A457-44F1-A7D8-3591BB8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06F-E139-4D10-9545-0235353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3273-7732-4DDE-91C3-1A657AFADA4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.</dc:creator>
  <dc:description/>
  <dc:language>en-US</dc:language>
  <cp:lastModifiedBy>.</cp:lastModifiedBy>
  <dcterms:modified xsi:type="dcterms:W3CDTF">2003-05-26T20:21:32Z</dcterms:modified>
  <cp:revision>6</cp:revision>
  <dc:subject/>
  <dc:title>PowerPoint bemutató</dc:title>
</cp:coreProperties>
</file>