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167-70BA-4DD6-B169-341C9EE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8A2-F078-4E05-AE1A-3179753B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BE8-B306-4511-8389-55485DD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65-C76B-4182-A74F-9C1F8977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9F4-7B66-4E3F-8D39-31784D2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DAB-C908-4B25-B541-1A0A8C31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0B6-7EA3-4FD6-84AF-C7165B7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F25-D5C1-4281-B4CF-49857852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451-646E-4453-8895-CE81BCDC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267-D1F1-4B9E-B331-03DC024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146-D7DC-4BCB-9D95-03F4D8F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B2D-1928-4C25-8687-38B04BD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186-0B6B-40E6-83FF-13F9E2DB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5943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égyölő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828800"/>
            <a:ext cx="5867640" cy="3809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ap: pettyekkel borított vörös vagy narancssá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nk: fehér színű, hosszú lelógó gallé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gyaszthatóság: mérgez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22:00Z</dcterms:created>
  <dc:creator>.</dc:creator>
  <dc:description/>
  <dc:language>en-US</dc:language>
  <cp:lastModifiedBy>.</cp:lastModifiedBy>
  <dcterms:modified xsi:type="dcterms:W3CDTF">2003-05-26T20:29:52Z</dcterms:modified>
  <cp:revision>2</cp:revision>
  <dc:subject/>
  <dc:title>Légyölő galóca</dc:title>
</cp:coreProperties>
</file>