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B86-035E-40E3-89C5-14800B47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A1B-38D4-465F-9F24-B0EBCF55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6A0-C6B5-41CD-AFB1-DD7B12F8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884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52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16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884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052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665-62E3-4E3B-B8D8-4A531E2F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A75-4C33-4813-BAE2-0242210B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DB7-D3DD-4DCA-BF7F-66ED13E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E61-154D-43FB-891D-3F10B3BC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585-2F4A-4C42-BA71-DA08554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08D-1B65-4B0A-BFB0-F41AFF48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5CB-1270-4D07-8178-82AABC9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927-3BEC-4DCF-A732-78E1D82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61D-C92B-4C2C-A1E7-F32F2BC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CDD-4C57-4262-AF7A-4A7DE346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ilkos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5 cm széles is lehet, sárgászöld szín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12 cm magas, alján bocsk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halálosan mérgező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 őzlábgo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25–30 cm széles, felülete pikkel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sűrűek, fehérek, majd barnás árnyalatú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40 cm magas is lehet, belül üre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, finom íz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ti csiper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598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2 cm átmérőjű is lehet, fehér szín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világos rózsaszínű, majd sötétba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átmérője legfeljebb 2 cm, gallé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őzláb" descr=""/>
          <p:cNvPicPr/>
          <p:nvPr/>
        </p:nvPicPr>
        <p:blipFill>
          <a:blip r:embed="rId1"/>
          <a:stretch/>
        </p:blipFill>
        <p:spPr>
          <a:xfrm>
            <a:off x="1143000" y="2055960"/>
            <a:ext cx="1863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18:31:04Z</dcterms:created>
  <dc:creator>.</dc:creator>
  <dc:description/>
  <dc:language>en-US</dc:language>
  <cp:lastModifiedBy>.</cp:lastModifiedBy>
  <dcterms:modified xsi:type="dcterms:W3CDTF">2003-05-26T20:21:56Z</dcterms:modified>
  <cp:revision>5</cp:revision>
  <dc:subject/>
  <dc:title>PowerPoint bemutató</dc:title>
</cp:coreProperties>
</file>