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E44-7DD4-4163-A448-53162B39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1959-30BD-4828-8275-68A8D197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F9F3-6C54-4171-9872-18733E74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4F52-C53C-4A4E-BE00-ECE35159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AA1D-B9CA-4A87-A6C1-68071B45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AD09-737C-4ACB-A153-37F46796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2BE1-DD67-4129-9688-64F269E9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61A7-8BBD-4E2E-8C75-B39A4F12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E912-9F35-407B-83FC-516EED34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BF6A-924C-4920-8F8D-5753E3F2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CA48-5177-4E54-B7FC-88B055C1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845-2F83-48D2-BE63-E59358DE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5240" y="165240"/>
            <a:ext cx="8812080" cy="65260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6888-D621-4A79-9845-75EBB5E52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Tanfolyami kínálatunkbó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c0c0c0"/>
                </a:solidFill>
                <a:latin typeface="Times New Roman"/>
              </a:rPr>
              <a:t>Számítástechnikai alapismeretek, 2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c0c0c0"/>
                </a:solidFill>
                <a:latin typeface="Times New Roman"/>
              </a:rPr>
              <a:t>Szövegszerkesztés, 3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c0c0c0"/>
                </a:solidFill>
                <a:latin typeface="Times New Roman"/>
              </a:rPr>
              <a:t>Táblázatkezelés, 36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c0c0c0"/>
                </a:solidFill>
                <a:latin typeface="Times New Roman"/>
              </a:rPr>
              <a:t>Prezentációkészítés, 2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c0c0c0"/>
                </a:solidFill>
                <a:latin typeface="Times New Roman"/>
              </a:rPr>
              <a:t>ECDL, 15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c0c0c0"/>
                </a:solidFill>
                <a:latin typeface="Times New Roman"/>
              </a:rPr>
              <a:t>Számítástechnikai szoftverüzemeltető, 25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c0c0c0"/>
                </a:solidFill>
                <a:latin typeface="Times New Roman"/>
              </a:rPr>
              <a:t>Számítástechnikai programozó, 120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3840" y="60948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c0c0c0"/>
                </a:solidFill>
                <a:latin typeface="Times New Roman"/>
              </a:rPr>
              <a:t>Út az emelt szintű végzettségh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66680" y="1676160"/>
            <a:ext cx="6591600" cy="4572360"/>
            <a:chOff x="1066680" y="1676160"/>
            <a:chExt cx="6591600" cy="4572360"/>
          </a:xfrm>
        </p:grpSpPr>
        <p:sp>
          <p:nvSpPr>
            <p:cNvPr id="46" name=""/>
            <p:cNvSpPr/>
            <p:nvPr/>
          </p:nvSpPr>
          <p:spPr>
            <a:xfrm flipV="1">
              <a:off x="1066680" y="5078160"/>
              <a:ext cx="6591600" cy="1170000"/>
            </a:xfrm>
            <a:custGeom>
              <a:avLst/>
              <a:gdLst>
                <a:gd name="textAreaLeft" fmla="*/ 997560 w 6591600"/>
                <a:gd name="textAreaRight" fmla="*/ 5594040 w 6591600"/>
                <a:gd name="textAreaTop" fmla="*/ 177120 h 1170000"/>
                <a:gd name="textAreaBottom" fmla="*/ 992880 h 11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865" y="21600"/>
                  </a:lnTo>
                  <a:lnTo>
                    <a:pt x="2735" y="2160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Times New Roman"/>
                </a:rPr>
                <a:t>ECD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1890720" y="4014000"/>
              <a:ext cx="4943520" cy="1063800"/>
            </a:xfrm>
            <a:custGeom>
              <a:avLst/>
              <a:gdLst>
                <a:gd name="textAreaLeft" fmla="*/ 824760 w 4943520"/>
                <a:gd name="textAreaRight" fmla="*/ 4118760 w 4943520"/>
                <a:gd name="textAreaTop" fmla="*/ 177480 h 1063800"/>
                <a:gd name="textAreaBottom" fmla="*/ 886320 h 106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63" y="21600"/>
                  </a:lnTo>
                  <a:lnTo>
                    <a:pt x="3337" y="2160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Times New Roman"/>
                </a:rPr>
                <a:t>Számítástechnikai szoftverüzemeltet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Times New Roman"/>
                </a:rPr>
                <a:t>+100 ó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2664000" y="1675440"/>
              <a:ext cx="3396960" cy="2338200"/>
            </a:xfrm>
            <a:custGeom>
              <a:avLst/>
              <a:gdLst>
                <a:gd name="textAreaLeft" fmla="*/ 1218600 w 3396960"/>
                <a:gd name="textAreaRight" fmla="*/ 2178360 w 3396960"/>
                <a:gd name="textAreaTop" fmla="*/ 838800 h 2338200"/>
                <a:gd name="textAreaBottom" fmla="*/ 1499400 h 23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Times New Roman"/>
                </a:rPr>
                <a:t>Számítástechnika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Times New Roman"/>
                </a:rPr>
                <a:t>programoz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Times New Roman"/>
                </a:rPr>
                <a:t>+950 ó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 flipH="1" flipV="1">
            <a:off x="5181120" y="1904760"/>
            <a:ext cx="2971800" cy="42670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66760" y="1655640"/>
          <a:ext cx="6950160" cy="28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655640"/>
                    <a:ext cx="6950160" cy="28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4572000" y="5715000"/>
            <a:ext cx="431784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18:13:02Z</dcterms:created>
  <dc:creator>.</dc:creator>
  <dc:description/>
  <dc:language>en-US</dc:language>
  <cp:lastModifiedBy>.</cp:lastModifiedBy>
  <dcterms:modified xsi:type="dcterms:W3CDTF">2003-05-25T12:11:34Z</dcterms:modified>
  <cp:revision>14</cp:revision>
  <dc:subject/>
  <dc:title>Tanfolyami kínálatunkból</dc:title>
</cp:coreProperties>
</file>