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C0F-EA95-4215-BA1C-380AAC39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101-4A09-4639-928C-261D8A9A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AF7-52FC-4D17-AB4A-A5150FD0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C53-AD4E-4465-BA6F-F86494AF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AB2-D885-472F-8F1A-A2428BEB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FB0-FC42-4F05-B0F4-8C694A68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A7D-7A4B-452C-ADAE-346B2EF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A71-4DF5-4358-8953-90CE129D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C25-CDA0-4E88-859F-1B8EF1C8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6DD-609F-484E-A2C9-792505B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63B-3AB1-4E61-8141-1C31C665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D4A-6896-4F13-AF7D-0CBE38BE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5760" y="165240"/>
            <a:ext cx="991404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68E8-AA21-40FD-9FF5-D911081D5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ítástechnikai alapismeretek, 2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szerkesztés, 3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blázatkezelés, 36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ezentációkészítés, 2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CDL, 15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ítástechnikai szoftverüzemeltető, 25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ítástechnikai programozó, 120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488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00240" y="5078160"/>
            <a:ext cx="7415280" cy="1170000"/>
          </a:xfrm>
          <a:custGeom>
            <a:avLst/>
            <a:gdLst>
              <a:gd name="textAreaLeft" fmla="*/ 1122120 w 7415280"/>
              <a:gd name="textAreaRight" fmla="*/ 6293160 w 7415280"/>
              <a:gd name="textAreaTop" fmla="*/ 177120 h 1170000"/>
              <a:gd name="textAreaBottom" fmla="*/ 99288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65" y="21600"/>
                </a:lnTo>
                <a:lnTo>
                  <a:pt x="2735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C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127240" y="4013640"/>
            <a:ext cx="5560920" cy="1063800"/>
          </a:xfrm>
          <a:custGeom>
            <a:avLst/>
            <a:gdLst>
              <a:gd name="textAreaLeft" fmla="*/ 927720 w 5560920"/>
              <a:gd name="textAreaRight" fmla="*/ 4633200 w 5560920"/>
              <a:gd name="textAreaTop" fmla="*/ 177480 h 1063800"/>
              <a:gd name="textAreaBottom" fmla="*/ 886320 h 10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63" y="21600"/>
                </a:lnTo>
                <a:lnTo>
                  <a:pt x="3337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mítástechnikai szoftverüzemelt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10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97360" y="1675440"/>
            <a:ext cx="3821040" cy="2338200"/>
          </a:xfrm>
          <a:custGeom>
            <a:avLst/>
            <a:gdLst>
              <a:gd name="textAreaLeft" fmla="*/ 1370880 w 3821040"/>
              <a:gd name="textAreaRight" fmla="*/ 2450160 w 3821040"/>
              <a:gd name="textAreaTop" fmla="*/ 838800 h 2338200"/>
              <a:gd name="textAreaBottom" fmla="*/ 1499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mítástechnik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ogram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95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33320" y="1655640"/>
          <a:ext cx="6950160" cy="28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1655640"/>
                    <a:ext cx="69501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143680" y="5715000"/>
            <a:ext cx="485748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.</cp:lastModifiedBy>
  <dcterms:modified xsi:type="dcterms:W3CDTF">2003-05-25T12:27:24Z</dcterms:modified>
  <cp:revision>17</cp:revision>
  <dc:subject/>
  <dc:title>Tanfolyami kínálatunkból</dc:title>
</cp:coreProperties>
</file>