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9D48-4128-46A6-9199-9079F0911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C862-58BE-4E05-9C15-443A90D5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2EAA-EF49-42E4-A9BF-F92A06DD1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019A-6728-4B4B-9ADB-F21335A5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8DB9-E390-40F2-95A6-C6C2B012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4B6A-E94A-4D47-BCE0-0D61C5CF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DB07-FA9A-420A-AFA6-1EBC635D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FC0C-5A49-4DDD-86AA-FA419163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3D99-17F8-4CE6-888E-8484045A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A7D0-B612-43F4-8EE5-6270DCC3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AA6D-93D7-4DE0-948A-84683E69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E9A4-E824-4456-AD75-274B9A1E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5240" y="165240"/>
            <a:ext cx="8812080" cy="65260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3EE4-41AA-4589-B6D7-D70B64B0D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Times New Roman"/>
              </a:rPr>
              <a:t>Tanfolyami kínálatunkbó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zámítástechnikai alapismeretek, 20 ó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zövegszerkesztés, 30 ó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áblázatkezelés, 36 ó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rezentációkészítés, 20 ó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CDL, 150 ó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zámítástechnikai szoftverüzemeltető, 250 ó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zámítástechnikai programozó, 1200 ó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3840" y="609480"/>
            <a:ext cx="41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Út az emelt szintű végzettségh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066680" y="5078160"/>
            <a:ext cx="6591600" cy="1170000"/>
          </a:xfrm>
          <a:custGeom>
            <a:avLst/>
            <a:gdLst>
              <a:gd name="textAreaLeft" fmla="*/ 997560 w 6591600"/>
              <a:gd name="textAreaRight" fmla="*/ 5594040 w 6591600"/>
              <a:gd name="textAreaTop" fmla="*/ 177120 h 1170000"/>
              <a:gd name="textAreaBottom" fmla="*/ 992880 h 11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865" y="21600"/>
                </a:lnTo>
                <a:lnTo>
                  <a:pt x="2735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C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890720" y="4014000"/>
            <a:ext cx="4943520" cy="1063800"/>
          </a:xfrm>
          <a:custGeom>
            <a:avLst/>
            <a:gdLst>
              <a:gd name="textAreaLeft" fmla="*/ 824760 w 4943520"/>
              <a:gd name="textAreaRight" fmla="*/ 4118760 w 4943520"/>
              <a:gd name="textAreaTop" fmla="*/ 177480 h 1063800"/>
              <a:gd name="textAreaBottom" fmla="*/ 886320 h 106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263" y="21600"/>
                </a:lnTo>
                <a:lnTo>
                  <a:pt x="3337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zámítástechnikai szoftverüzemeltet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00 ó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664000" y="1675440"/>
            <a:ext cx="3396960" cy="2338200"/>
          </a:xfrm>
          <a:custGeom>
            <a:avLst/>
            <a:gdLst>
              <a:gd name="textAreaLeft" fmla="*/ 1218600 w 3396960"/>
              <a:gd name="textAreaRight" fmla="*/ 2178360 w 3396960"/>
              <a:gd name="textAreaTop" fmla="*/ 838800 h 2338200"/>
              <a:gd name="textAreaBottom" fmla="*/ 1499400 h 233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zámítástechnika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oz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950 ó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181120" y="1904760"/>
            <a:ext cx="2971800" cy="426708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66760" y="1655640"/>
          <a:ext cx="6950160" cy="28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1655640"/>
                    <a:ext cx="6950160" cy="28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4572000" y="5715000"/>
            <a:ext cx="4317840" cy="53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18:13:02Z</dcterms:created>
  <dc:creator>.</dc:creator>
  <dc:description/>
  <dc:language>en-US</dc:language>
  <cp:lastModifiedBy>.</cp:lastModifiedBy>
  <dcterms:modified xsi:type="dcterms:W3CDTF">2003-05-25T13:24:54Z</dcterms:modified>
  <cp:revision>13</cp:revision>
  <dc:subject/>
  <dc:title>Tanfolyami kínálatunkból</dc:title>
</cp:coreProperties>
</file>