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7BA-0AFA-419D-9870-CD887645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C4E-D453-426D-BC41-E6E2926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486-D6CD-43E1-8D78-D6AAF58E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16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477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D13-6FE9-4DD4-8761-83B2E5E2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68E-5042-47CD-B4BF-9F4CBACB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35A-6AA5-4E9D-9D33-FF283E17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EA1-C805-45A3-9D6B-BF32346C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2F2-E311-4E39-8E10-0508C27A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F4F-1E57-4E55-8154-BE99D993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432-D61E-4D8B-8E4A-DB2D6B44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45A-A466-4F46-AF1A-583C9E75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670-6AAC-49A4-8C5A-A91EB2C9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DC53-FA90-4FD5-A421-0986B04FD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368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7908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6450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90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52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85768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809880" y="6318360"/>
            <a:ext cx="64800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6244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20829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2286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3747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1500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667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7620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76240" y="457200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zenzációs karácsonyi vásár az XXX játékboltba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ársasjátékok 30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vó babák 25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űanyag építőjátékok nagy választé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z országban egyedülálló modellvasút választé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609480"/>
            <a:ext cx="4572000" cy="1067040"/>
          </a:xfrm>
          <a:custGeom>
            <a:avLst/>
            <a:gdLst>
              <a:gd name="textAreaLeft" fmla="*/ 1143000 w 4572000"/>
              <a:gd name="textAreaRight" fmla="*/ 3429000 w 4572000"/>
              <a:gd name="textAreaTop" fmla="*/ 13320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ímü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XX Játékbo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zékesfehérvár, Zsiráf köz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el.: 999-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Kellemes karácsonyi ünnepeket kívánunk minden kedves vásárlónkna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09:35:32Z</dcterms:created>
  <dc:creator>.</dc:creator>
  <dc:description/>
  <dc:language>en-US</dc:language>
  <cp:lastModifiedBy>.</cp:lastModifiedBy>
  <dcterms:modified xsi:type="dcterms:W3CDTF">2003-05-25T13:46:08Z</dcterms:modified>
  <cp:revision>9</cp:revision>
  <dc:subject/>
  <dc:title>PowerPoint bemutató</dc:title>
</cp:coreProperties>
</file>