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9AF7-922A-4E16-9A05-3F1AF32C2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D239-A49E-4E5F-AC29-6DC93457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5B22-1CA6-468D-B4F6-0D4D4D57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567C-277B-49AF-89DE-CE2AF5C6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653C-3B94-4DF3-80D2-3952F04D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4BB2-E24D-48CE-80EE-76B337A3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A844-1018-404E-AA98-DFD117E5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5E13-8978-4617-B7CD-93BA3614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59EF-00ED-4B00-A1E3-D5CA63A4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F1A4-8AE8-43F3-BF76-9AB2FE63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40D8-50D4-4778-AC0C-1E1477CF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61BD-BA85-4999-BDDF-FD838120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3257-FB41-49CA-9F39-25497015E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3688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790800"/>
            <a:ext cx="647640" cy="5400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464508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5499000"/>
            <a:ext cx="647640" cy="5400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95256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90512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85768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3809880" y="6318360"/>
            <a:ext cx="64800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476244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0" y="20829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22868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0" y="3747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571500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666756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762012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76240" y="4572000"/>
            <a:ext cx="739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400" spc="-1" strike="noStrike">
                <a:solidFill>
                  <a:srgbClr val="ffff00"/>
                </a:solidFill>
                <a:latin typeface="Times New Roman"/>
              </a:rPr>
              <a:t>Szenzációs karácsonyi vásár az XXX játékboltba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Társasjátékok 30% engedménny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Alvó babák 25% engedménny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Műanyag építőjátékok nagy választék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Az országban egyedülálló modellvasút választé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0" y="609480"/>
            <a:ext cx="4572000" cy="1067040"/>
          </a:xfrm>
          <a:custGeom>
            <a:avLst/>
            <a:gdLst>
              <a:gd name="textAreaLeft" fmla="*/ 1143000 w 4572000"/>
              <a:gd name="textAreaRight" fmla="*/ 3429000 w 4572000"/>
              <a:gd name="textAreaTop" fmla="*/ 133200 h 1067040"/>
              <a:gd name="textAreaBottom" fmla="*/ 10674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Címü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ffff00"/>
                </a:solidFill>
                <a:latin typeface="Times New Roman"/>
              </a:rPr>
              <a:t>XXX Játékbo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ffff00"/>
                </a:solidFill>
                <a:latin typeface="Times New Roman"/>
              </a:rPr>
              <a:t>Székesfehérvár, Zsiráf köz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ffff00"/>
                </a:solidFill>
                <a:latin typeface="Times New Roman"/>
              </a:rPr>
              <a:t>Tel.: 999-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38862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Kellemes karácsonyi ünnepeket kívánunk minden kedves vásárlónknak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1T09:35:32Z</dcterms:created>
  <dc:creator>.</dc:creator>
  <dc:description/>
  <dc:language>en-US</dc:language>
  <cp:lastModifiedBy>.</cp:lastModifiedBy>
  <dcterms:modified xsi:type="dcterms:W3CDTF">2003-05-25T13:53:33Z</dcterms:modified>
  <cp:revision>10</cp:revision>
  <dc:subject/>
  <dc:title>PowerPoint bemutató</dc:title>
</cp:coreProperties>
</file>