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6E7-AEF2-4BD6-B9F1-B8E3B2A6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347-13F5-4DF3-BBC6-1BA3D506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BEE-4122-499C-B28A-8CF68B12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7F2-7062-4145-BCD8-63F8C4AD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4CA-DE85-4908-A3E3-0E9AFE9B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34D-7C18-451D-BC43-EE6709A9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664-5FF6-436A-BC28-FA3A5F8C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F82-515D-4495-A40E-15BCE291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7FB-779E-4ED8-B1F6-858D9797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C87-E2B5-446E-81F9-1FA5E07C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887-7733-4C4F-AE4A-4DE10DE2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E97-150C-4D0D-A38C-46BB853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08BC-9890-49F5-A10A-E7D76804C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ve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mutatk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élkitűz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őbeo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ső t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éma felváz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ma kifej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rdések és válasz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9:57:25Z</dcterms:created>
  <dc:creator>.</dc:creator>
  <dc:description/>
  <dc:language>en-US</dc:language>
  <cp:lastModifiedBy>.</cp:lastModifiedBy>
  <dcterms:modified xsi:type="dcterms:W3CDTF">2003-03-11T19:57:39Z</dcterms:modified>
  <cp:revision>1</cp:revision>
  <dc:subject/>
  <dc:title>Bevezetés</dc:title>
</cp:coreProperties>
</file>