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322-D4E3-43AD-A17E-BE3EF2C7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1C4-5EE6-4841-B22A-DBAED959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7B4-34B1-4964-AA51-A5EB8ADB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D9B-2F7D-435D-BF8A-3D7F44E0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3C9-00C6-40BA-8B4F-A519434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00E-EE66-4E9E-B2E5-9F1F3B7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D73-9E4D-403A-B5C2-273DD42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C72-FC25-41C4-9377-CC924117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C5B-16E6-4716-9F67-76EF0CD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2CB-9ECF-4B64-A2C2-E0B783A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C40-C0DE-4E87-BA21-824ECB3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67E-C630-4352-AD8A-0462F1C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32000" y="1270080"/>
            <a:ext cx="647856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FED-5ACD-4E11-B922-44421FAD560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460368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104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.</dc:creator>
  <dc:description/>
  <dc:language>en-US</dc:language>
  <cp:lastModifiedBy>.</cp:lastModifiedBy>
  <dcterms:modified xsi:type="dcterms:W3CDTF">2003-05-26T20:43:37Z</dcterms:modified>
  <cp:revision>6</cp:revision>
  <dc:subject/>
  <dc:title>PowerPoint bemutató</dc:title>
</cp:coreProperties>
</file>