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4B8-C10B-4FA1-ACA7-4A6FC03B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2600" y="279972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AF4-77D5-4877-98DF-11406A85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BF3-FE69-48D7-89B1-E90C987F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728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196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260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728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196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298-FF62-40E0-8416-CBF6C3A9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A09-1F60-48EC-8843-8A876CC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675-D8AA-4230-9935-8D1DEACC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C01-DB6A-4E1E-A2D6-0F6218AA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690-6A22-41DB-9C82-DB209C5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8762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2C4-8143-4AE3-B776-38AAAD0B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72A-0D4C-42E3-8722-571C156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448-83F0-4679-8C7C-AA636D1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0ED-A176-410C-A752-73EA9948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98680" y="1270080"/>
            <a:ext cx="7288200" cy="4317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2D61-B152-44F8-AF0D-EE04A01B5B6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elorie.com/house/old/house-4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battelle.org/careers/gfx/house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ti.org/house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lal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aládi ház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rház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rodaépület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yaral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di tervezését és kivitelezés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00381_" descr=""/>
          <p:cNvPicPr/>
          <p:nvPr/>
        </p:nvPicPr>
        <p:blipFill>
          <a:blip r:embed="rId1"/>
          <a:stretch/>
        </p:blipFill>
        <p:spPr>
          <a:xfrm>
            <a:off x="1542960" y="1295280"/>
            <a:ext cx="5180040" cy="257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28640" y="5104440"/>
            <a:ext cx="71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.: (11) 123-456; (11) 654-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ouse-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124080"/>
            <a:ext cx="3040200" cy="200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838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ferenciá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ouse" descr="">
            <a:hlinkClick r:id="rId3"/>
          </p:cNvPr>
          <p:cNvPicPr/>
          <p:nvPr/>
        </p:nvPicPr>
        <p:blipFill>
          <a:blip r:embed="rId4"/>
          <a:srcRect l="3952" t="7014" r="6582" b="12212"/>
          <a:stretch/>
        </p:blipFill>
        <p:spPr>
          <a:xfrm>
            <a:off x="2552760" y="167652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house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3680" y="205740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9:28:36Z</dcterms:created>
  <dc:creator>.</dc:creator>
  <dc:description/>
  <dc:language>en-US</dc:language>
  <cp:lastModifiedBy>.</cp:lastModifiedBy>
  <dcterms:modified xsi:type="dcterms:W3CDTF">2003-05-25T14:10:09Z</dcterms:modified>
  <cp:revision>12</cp:revision>
  <dc:subject/>
  <dc:title>PowerPoint bemutató</dc:title>
</cp:coreProperties>
</file>