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99D1-73AD-4C4A-9E04-A9407300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2F45-03DE-40BE-96C7-D271AC19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41C8-09BB-42DB-8AC0-C9F0AE04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5AE8-AC71-45AE-A816-63B624DA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9CFE-4C49-4EFB-AC32-3F779DD6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D596-8FD4-4049-A09D-6B6B0BEB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AF7F-62E7-4FD3-BC74-ADA43ED2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E61F-ECCA-48FC-8C98-7A8093AA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1D99-22BC-4F79-9DB0-411B47BE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F23B-0159-4CFA-89F8-1EFFB881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D102-BBA3-4DFC-8BAE-355F10BA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52FB-EF45-4131-860D-34569687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30492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30492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733920" y="304920"/>
            <a:ext cx="167616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410080" y="30492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6600" y="30492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86696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057400" y="186696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733920" y="1866960"/>
            <a:ext cx="167616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410080" y="186696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86600" y="186696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80880" y="342900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057400" y="342900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733920" y="3429000"/>
            <a:ext cx="167616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5410080" y="342900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7086600" y="342900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80880" y="499104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057400" y="499104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733920" y="4991040"/>
            <a:ext cx="167616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5410080" y="499104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086600" y="499104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00AE-439A-4189-8CFD-0BA0BD368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68600" y="3017880"/>
            <a:ext cx="58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Szenzációs csempe és padlóburkoló választék az XXX CSEMPEBOLTBA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368280"/>
            <a:ext cx="83822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üZLETÜNKBE KIVÁLÓ MINŐSÉGŰ OLASZ CSEMPÉK ÉRKEZTEK. tÖBB MINT 80 KÜLÖNBÖZŐ CSEMPE ÉS PADLÓBURKOLÓ KÖZÜL VÁLASZTHAT, A LEGKEDVEZŐBB ÁRTÓL A LEGIGÉNYESEBB MINŐSÉGI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68600" y="1141560"/>
            <a:ext cx="580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Címünk: Szeged, Fogas út 99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999-99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71600" y="1371600"/>
            <a:ext cx="2879640" cy="215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lasz márványmintás csem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000 Ft/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2971800"/>
            <a:ext cx="2879640" cy="28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Gránitmintás fagyálló tapos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500 Ft/m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09:44:14Z</dcterms:created>
  <dc:creator>.</dc:creator>
  <dc:description/>
  <dc:language>en-US</dc:language>
  <cp:lastModifiedBy>.</cp:lastModifiedBy>
  <dcterms:modified xsi:type="dcterms:W3CDTF">2003-05-03T16:13:02Z</dcterms:modified>
  <cp:revision>11</cp:revision>
  <dc:subject/>
  <dc:title>PowerPoint bemutató</dc:title>
</cp:coreProperties>
</file>