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F0F-214F-452A-80CA-B8124725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5FF-78A4-497A-8354-488A4BB2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49E-2751-4E2A-AD6D-D48E1DDC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E98-2425-46A8-B99E-03CBD235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676-ED76-43DC-9373-CB225188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FE1-E23E-4D6C-906A-C5AB415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387-7C40-4C9A-AE21-5BED17F7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B44-C567-4532-9C7F-CA4497A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86E-7DE5-45A4-BDF0-B8B39C7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8AE-44CE-4F51-88C2-D3F106E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6BC-23E4-48E1-AF99-02083069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F4B-7503-4989-92F5-7095335D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30492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00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33920" y="186696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100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66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0574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733920" y="342900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4100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866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0574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733920" y="499104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0866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8F2-6BBB-4769-8596-50956C74A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8600" y="3017880"/>
            <a:ext cx="58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zenzációs csempe és padlóburkoló választék az XXX CSEMPEBOLTB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68280"/>
            <a:ext cx="8382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LETÜNKBE KIVÁLÓ MINŐSÉGŰ OLASZ CSEMPÉK ÉRKEZTEK. tÖBB MINT 80 KÜLÖNBÖZŐ CSEMPE ÉS PADLÓBURKOLÓ KÖZÜL VÁLASZTHAT, A LEGKEDVEZŐBB ÁRTÓL A LEGIGÉNYESEBB MINŐSÉG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8600" y="1141560"/>
            <a:ext cx="58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ímünk: Szeged, Fogas út 9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999-9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1371600"/>
            <a:ext cx="2879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lasz márványmintás cse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0 Ft/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971800"/>
            <a:ext cx="2879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ránitmintás fagyálló tapo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00 Ft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9:44:14Z</dcterms:created>
  <dc:creator>.</dc:creator>
  <dc:description/>
  <dc:language>en-US</dc:language>
  <cp:lastModifiedBy>.</cp:lastModifiedBy>
  <dcterms:modified xsi:type="dcterms:W3CDTF">2003-05-03T16:13:02Z</dcterms:modified>
  <cp:revision>11</cp:revision>
  <dc:subject/>
  <dc:title>PowerPoint bemutató</dc:title>
</cp:coreProperties>
</file>