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EB78-D748-455A-90D3-D567CFEC2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CE1-35EE-43FC-A1FA-AB07463B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B42-2CD9-40E0-B8A2-67DFAC39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D16-4413-4AED-9C90-19CC98A0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5C7-4E79-4CF7-9707-75120A68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D86-6F99-403F-B13A-F3BEB4B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30B-6160-4C38-9C5C-39777600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A88-D47E-4E23-939D-36D1DF0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FFE-7561-4023-B1C7-457B421E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D76-5878-4FA5-9F4C-9A0B034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C03-3951-4253-884F-CE0565F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3CC-793E-42AA-A8B3-3FDFD75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833-F4DF-4DF2-BD4E-3D1FA02B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C903-8786-44EB-A163-59230664EBC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0"/>
            <a:ext cx="1295280" cy="609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S00554_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/>
  <dc:description/>
  <dc:language>en-US</dc:language>
  <cp:lastModifiedBy>.</cp:lastModifiedBy>
  <dcterms:modified xsi:type="dcterms:W3CDTF">2003-05-25T14:32:34Z</dcterms:modified>
  <cp:revision>5</cp:revision>
  <dc:subject/>
  <dc:title>PowerPoint bemutató</dc:title>
</cp:coreProperties>
</file>