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23D9-FD2E-4508-845C-E4364B158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edvezmény mértéke 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04F-5DE5-4C2E-8D05-31D7B770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618-584F-47B6-B828-067B0094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CA3-99D4-42E1-B432-AFBAA600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13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856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213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856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B31-0B0C-4D8D-8D69-040F4264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7D8-9BC5-4BD7-BAB9-DE555821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DD3-838C-46D4-BA7B-7517B61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3A8-197D-4083-BBAE-1ED61EFC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8B0-BC78-4BFC-A688-B294300A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776-D93D-44D9-9635-556816CB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1D7-E93D-49CB-9CD7-76C6ED6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084-108D-4650-9053-56D07E8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CCE-34FD-43E1-BA21-EF5BDA50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5A6A-D423-42D7-B27E-DDE1D81F53B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0"/>
            <a:ext cx="1295280" cy="609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nyvkiad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65284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adónk tankönyvek, ismeretterjesztő kiadványok, lexikonok kiadásával foglalk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S00554_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20700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ddig megjelent kiadvány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gék és mondák (történelmi olvasókönyv általános iskolásokn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fiz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biológi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matemat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ológiai kislexi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1523880"/>
            <a:ext cx="5715000" cy="38102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zonteladók és iskolák kedvezménnyel vásárolhatn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265284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sse fel bemutatóüzletünket a kiadóná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8:14:40Z</dcterms:created>
  <dc:creator/>
  <dc:description/>
  <dc:language>en-US</dc:language>
  <cp:lastModifiedBy>.</cp:lastModifiedBy>
  <dcterms:modified xsi:type="dcterms:W3CDTF">2003-05-25T14:38:44Z</dcterms:modified>
  <cp:revision>5</cp:revision>
  <dc:subject/>
  <dc:title>PowerPoint bemutató</dc:title>
</cp:coreProperties>
</file>