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636-046E-4ECB-A7AD-6F1AD0E59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ruházunkhoz 650 férőhelyes ingyenes parkoló tart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BFF-18B7-449F-A3D9-59CDB8D7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BDD-6139-44ED-A708-C22705B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81B-1C6D-4787-8125-B3290D3E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12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70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12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70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B44-AA81-4358-A28C-A9CB5AE5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F83-66A9-4FA0-A0B0-CC42C84F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49E-1D2C-42A5-AE74-329B7A1B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CD4-1DF5-408E-A2CB-A89A40A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DD8-8D13-4AA1-BCAC-3B7C8B4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699-D9F2-4449-AD74-55A237E2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BB7-2C40-4FEA-911C-A7CB1680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7F8-9FF8-4FE9-8CA6-1E4583B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4D1-C596-42C1-B969-7A34834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00160"/>
            <a:ext cx="7916760" cy="57578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3049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70CC-0B0E-44F6-80C1-E2861B376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37240" y="22860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9720" y="228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Őszi kollekción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és női overal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ermek kabátk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nadrágok 4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ői kosztümök 2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nyők, esőkabátok óriási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7432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yen ősz, tél, tavasz vagy nyár, mindig várja önt az xxx áruhá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379520"/>
            <a:ext cx="1663560" cy="1427040"/>
            <a:chOff x="228600" y="1379520"/>
            <a:chExt cx="1663560" cy="1427040"/>
          </a:xfrm>
        </p:grpSpPr>
        <p:sp>
          <p:nvSpPr>
            <p:cNvPr id="55" name=""/>
            <p:cNvSpPr/>
            <p:nvPr/>
          </p:nvSpPr>
          <p:spPr>
            <a:xfrm>
              <a:off x="241200" y="212724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800" y="234144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960" y="226548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480" y="226224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560" y="222876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139212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7240" y="153036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440" y="167148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160" y="183348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4600" y="153684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92200" y="173340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1120" y="191448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6480" y="215568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120" y="137952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211284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150012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960" y="157644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43240" y="1295280"/>
            <a:ext cx="1663560" cy="1427040"/>
            <a:chOff x="5943240" y="1295280"/>
            <a:chExt cx="1663560" cy="1427040"/>
          </a:xfrm>
        </p:grpSpPr>
        <p:sp>
          <p:nvSpPr>
            <p:cNvPr id="73" name=""/>
            <p:cNvSpPr/>
            <p:nvPr/>
          </p:nvSpPr>
          <p:spPr>
            <a:xfrm flipH="1">
              <a:off x="6949080" y="20430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90720" y="22572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81000" y="2181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162200" y="21780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4880" y="21445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79520" y="13078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987600" y="14461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51240" y="15872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0520" y="17492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62320" y="14526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9440" y="16491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104520" y="18302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36920" y="20714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763680" y="12952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941520" y="20286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43240" y="14158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641280" y="14922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5181480"/>
            <a:ext cx="1663560" cy="1427040"/>
            <a:chOff x="228600" y="5181480"/>
            <a:chExt cx="1663560" cy="1427040"/>
          </a:xfrm>
        </p:grpSpPr>
        <p:sp>
          <p:nvSpPr>
            <p:cNvPr id="91" name=""/>
            <p:cNvSpPr/>
            <p:nvPr/>
          </p:nvSpPr>
          <p:spPr>
            <a:xfrm flipV="1">
              <a:off x="241200" y="53604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61800" y="55098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4960" y="5700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8480" y="554796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9560" y="55699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4520" y="592704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7240" y="630504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3440" y="616392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6160" y="600336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74600" y="534816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492200" y="607464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11120" y="583380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76480" y="568260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00120" y="591444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8600" y="534456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47600" y="530496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3960" y="518112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5181480"/>
            <a:ext cx="1663560" cy="1427040"/>
            <a:chOff x="6019560" y="5181480"/>
            <a:chExt cx="1663560" cy="1427040"/>
          </a:xfrm>
        </p:grpSpPr>
        <p:sp>
          <p:nvSpPr>
            <p:cNvPr id="109" name=""/>
            <p:cNvSpPr/>
            <p:nvPr/>
          </p:nvSpPr>
          <p:spPr>
            <a:xfrm flipH="1">
              <a:off x="7025400" y="59292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67040" y="61434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357320" y="60674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38520" y="60642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81200" y="60307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55840" y="51940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63920" y="53323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27560" y="54734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936840" y="56354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38640" y="53388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125760" y="55353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80840" y="57164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213240" y="59576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40000" y="51814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17840" y="59148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560" y="53020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17600" y="53784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61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000" y="5181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ssuth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733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i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666880"/>
            <a:ext cx="1600200" cy="914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676520"/>
            <a:ext cx="16002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09680" y="1752480"/>
            <a:ext cx="0" cy="1371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71800" y="21812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7:19:43Z</dcterms:created>
  <dc:creator>.</dc:creator>
  <dc:description/>
  <dc:language>en-US</dc:language>
  <cp:lastModifiedBy>.</cp:lastModifiedBy>
  <dcterms:modified xsi:type="dcterms:W3CDTF">2003-03-27T07:56:39Z</dcterms:modified>
  <cp:revision>6</cp:revision>
  <dc:subject/>
  <dc:title>Őszi kollekciónkból</dc:title>
</cp:coreProperties>
</file>