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DCBA-DA5C-42D4-AC47-6FAEA841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ruházunkhoz 650 férőhelyes ingyenes parkoló tartoz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2D0-BFEF-43AE-B1B9-8D5B240F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886-7897-461B-9ACA-71108AB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36B-115C-4602-AD7D-8865B325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12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70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12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70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881-4BB1-432E-87DE-8486D815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DB4-6879-4CDB-89BB-EAA51C59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417-FF60-480A-B973-B388264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986-6EBB-40A0-8890-071162CA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F9B-3A7E-461A-AF51-9F7F4D9A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859-1920-4C5B-91FC-25E2D67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AAE-D36C-4E25-821E-AB6FE4C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864-FA03-4E37-9B3D-6EEC2AC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CDA-F93D-4F23-A71E-4555341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00160"/>
            <a:ext cx="7916760" cy="57578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3049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A2FF-6FC5-4A54-90D2-7E2FC4516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37240" y="22860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9720" y="228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Őszi kollekción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és női overal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ermek kabátk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nadrágok 4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ői kosztümök 2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nyők, esőkabátok óriási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7432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yen ősz, tél, tavasz vagy nyár, mindig várja önt az xxx áruhá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379520"/>
            <a:ext cx="1663560" cy="1427040"/>
            <a:chOff x="228600" y="1379520"/>
            <a:chExt cx="1663560" cy="1427040"/>
          </a:xfrm>
        </p:grpSpPr>
        <p:sp>
          <p:nvSpPr>
            <p:cNvPr id="55" name=""/>
            <p:cNvSpPr/>
            <p:nvPr/>
          </p:nvSpPr>
          <p:spPr>
            <a:xfrm>
              <a:off x="241200" y="212724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800" y="234144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960" y="226548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8480" y="226224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560" y="222876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139212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7240" y="153036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440" y="167148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6160" y="183348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74600" y="153684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92200" y="173340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1120" y="191448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6480" y="215568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120" y="137952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211284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7600" y="150012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960" y="157644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43240" y="1295280"/>
            <a:ext cx="1663560" cy="1427040"/>
            <a:chOff x="5943240" y="1295280"/>
            <a:chExt cx="1663560" cy="1427040"/>
          </a:xfrm>
        </p:grpSpPr>
        <p:sp>
          <p:nvSpPr>
            <p:cNvPr id="73" name=""/>
            <p:cNvSpPr/>
            <p:nvPr/>
          </p:nvSpPr>
          <p:spPr>
            <a:xfrm flipH="1">
              <a:off x="6949080" y="20430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90720" y="22572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281000" y="2181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162200" y="21780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4880" y="21445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79520" y="13078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987600" y="14461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51240" y="15872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0520" y="17492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962320" y="14526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49440" y="16491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104520" y="18302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136920" y="20714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763680" y="12952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941520" y="20286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43240" y="14158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641280" y="14922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5181480"/>
            <a:ext cx="1663560" cy="1427040"/>
            <a:chOff x="228600" y="5181480"/>
            <a:chExt cx="1663560" cy="1427040"/>
          </a:xfrm>
        </p:grpSpPr>
        <p:sp>
          <p:nvSpPr>
            <p:cNvPr id="91" name=""/>
            <p:cNvSpPr/>
            <p:nvPr/>
          </p:nvSpPr>
          <p:spPr>
            <a:xfrm flipV="1">
              <a:off x="241200" y="53604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61800" y="55098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4960" y="5700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28480" y="554796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9560" y="55699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4520" y="592704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7240" y="630504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3440" y="616392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76160" y="600336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74600" y="534816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492200" y="607464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311120" y="583380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76480" y="568260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00120" y="591444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28600" y="534456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47600" y="530496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3960" y="518112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560" y="5181480"/>
            <a:ext cx="1663560" cy="1427040"/>
            <a:chOff x="6019560" y="5181480"/>
            <a:chExt cx="1663560" cy="1427040"/>
          </a:xfrm>
        </p:grpSpPr>
        <p:sp>
          <p:nvSpPr>
            <p:cNvPr id="109" name=""/>
            <p:cNvSpPr/>
            <p:nvPr/>
          </p:nvSpPr>
          <p:spPr>
            <a:xfrm flipH="1">
              <a:off x="7025400" y="59292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367040" y="61434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357320" y="60674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238520" y="60642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81200" y="60307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55840" y="51940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63920" y="53323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27560" y="54734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936840" y="56354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038640" y="53388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125760" y="55353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80840" y="57164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213240" y="59576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40000" y="51814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17840" y="59148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560" y="53020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17600" y="53784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5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61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961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000" y="5181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ssuth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7339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ti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666880"/>
            <a:ext cx="1600200" cy="914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676520"/>
            <a:ext cx="16002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09680" y="1752480"/>
            <a:ext cx="0" cy="1371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71800" y="21812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a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7:19:43Z</dcterms:created>
  <dc:creator>.</dc:creator>
  <dc:description/>
  <dc:language>en-US</dc:language>
  <cp:lastModifiedBy>.</cp:lastModifiedBy>
  <dcterms:modified xsi:type="dcterms:W3CDTF">2003-03-27T07:56:39Z</dcterms:modified>
  <cp:revision>6</cp:revision>
  <dc:subject/>
  <dc:title>Őszi kollekciónkból</dc:title>
</cp:coreProperties>
</file>