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4FAE-3DB0-43F9-9A81-DE8A5D9F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7183-FC81-4BC9-BA01-ED285E12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51D6-3D2E-4E43-B616-5C030012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5FB1-4024-48CE-A79E-59E2E1A2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D19D-080F-4E41-AFBC-03C40B02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3D5E-3D59-4760-B05D-C7EF5844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EBB3-8605-4709-AEDF-0546A9E7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39A6-B625-48E1-A4AB-59D531E5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5F4D-B677-47C7-BD5E-2DC5BD55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AC1C-F3A0-42AB-8C11-AB46EF27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C596-426F-4380-BB00-D0666ED3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E9C6-396F-4311-B00A-D37EB7B4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152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F830-4CDA-4629-A9CD-3B9665F510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61160" y="1066680"/>
            <a:ext cx="46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ÚRAAJÁNLATOK 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Velencei-tó és környé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4200" y="4267080"/>
            <a:ext cx="236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lencei-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lencei-hegy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á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árd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62000" y="4267080"/>
            <a:ext cx="204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Pákoz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ukor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Nad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zékesfehérvá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velenceito" descr=""/>
          <p:cNvPicPr/>
          <p:nvPr/>
        </p:nvPicPr>
        <p:blipFill>
          <a:blip r:embed="rId1"/>
          <a:stretch/>
        </p:blipFill>
        <p:spPr>
          <a:xfrm>
            <a:off x="4800600" y="2362320"/>
            <a:ext cx="32338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32840" y="969840"/>
            <a:ext cx="527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T</a:t>
            </a:r>
            <a:r>
              <a:rPr b="1" lang="hu-HU" sz="4400" spc="-1" strike="noStrike">
                <a:solidFill>
                  <a:srgbClr val="ff9900"/>
                </a:solidFill>
                <a:latin typeface="Times New Roman"/>
              </a:rPr>
              <a:t>ÚRAAJÁNLAT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Times New Roman"/>
              </a:rPr>
              <a:t>Bükki Nemzeti Pa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4560" y="4267080"/>
            <a:ext cx="174132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zilvásvá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llafü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1200" y="4267080"/>
            <a:ext cx="20642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zarvask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sko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skolctapol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600200" y="4038480"/>
          <a:ext cx="6095880" cy="2133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úraajánl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 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.550 Ft/f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.000 Ft/f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.000 Ft/f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.000 Ft/f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600200" y="4038480"/>
          <a:ext cx="6095880" cy="2133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úraajánl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 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I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V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9:31:13Z</dcterms:created>
  <dc:creator>.</dc:creator>
  <dc:description/>
  <dc:language>en-US</dc:language>
  <cp:lastModifiedBy>.</cp:lastModifiedBy>
  <dcterms:modified xsi:type="dcterms:W3CDTF">2003-05-25T14:54:50Z</dcterms:modified>
  <cp:revision>13</cp:revision>
  <dc:subject/>
  <dc:title>PowerPoint bemutató</dc:title>
</cp:coreProperties>
</file>