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A63-9A02-425B-8A13-9D56996F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C01-7DE0-4B52-8B80-042610A6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FF8-FF40-43C9-9C10-C63ADAD8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2AE-FA1F-4F06-9CBF-EEA349D9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D43-693E-445E-A3F6-C2AB6E5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321-0620-4BF2-93B2-4206048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082-017D-4C9E-8316-0A3D3E9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3C7-4E73-4294-AB8F-675D2E3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967-0D90-4445-9174-AAD5366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6F0-A5A9-4830-AD42-D97981B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3EE-8FD5-4D97-B2A0-80CA945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EBF-F0CB-4AF1-905F-258D082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A73-8138-40BB-80A5-8A0A48848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76080" y="969840"/>
            <a:ext cx="59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.</dc:creator>
  <dc:description/>
  <dc:language>en-US</dc:language>
  <cp:lastModifiedBy>.</cp:lastModifiedBy>
  <dcterms:modified xsi:type="dcterms:W3CDTF">2003-05-25T15:00:17Z</dcterms:modified>
  <cp:revision>12</cp:revision>
  <dc:subject/>
  <dc:title>PowerPoint bemutató</dc:title>
</cp:coreProperties>
</file>