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D20-201F-4A8D-9EFB-7ECDDD89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8D7-10F6-4CB4-BB96-75713BD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D5A-3678-459E-8721-5C56C10F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542-1DBA-4AB8-9005-1B9F7E2D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674-D1E9-4F2D-8944-781FAE7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B1D-AE08-416F-A440-1B27FFB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0DB-E6F9-4B83-88C9-1EB2AB5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4ED-3E20-4538-8D96-73ECC66D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7CE-4254-40CC-8F19-E8841A52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89D-E2FA-4E33-9FB0-29584179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0B1-61B0-4061-8DF4-EEC3198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F12-E479-46D4-BBE3-2B5D0EBA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FFC-FD63-487C-8196-40D40B3FF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8080" y="969840"/>
            <a:ext cx="621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00"/>
                </a:solidFill>
                <a:latin typeface="Times New Roman"/>
              </a:rPr>
              <a:t>Balaton és környé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33680" y="4267080"/>
            <a:ext cx="14014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h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zth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3440" y="4267080"/>
            <a:ext cx="1518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cs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óf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.</dc:creator>
  <dc:description/>
  <dc:language>en-US</dc:language>
  <cp:lastModifiedBy>.</cp:lastModifiedBy>
  <dcterms:modified xsi:type="dcterms:W3CDTF">2003-03-28T20:44:37Z</dcterms:modified>
  <cp:revision>13</cp:revision>
  <dc:subject/>
  <dc:title>PowerPoint bemutató</dc:title>
</cp:coreProperties>
</file>