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B3C-D8E4-49C5-A650-153F0086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762-45C4-4A31-81FA-855AF566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70E-EC63-4578-89CD-DEFD1063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10E-6FE5-47A2-8025-349BF06A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7F1-AB96-4555-B873-CB8CEBDE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9F1-B8B3-4694-BA3D-1374C37B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4B4-DB8A-4A80-90AB-67A41CE3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C83-E279-4751-8C8D-9BC50DA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D0B-A4CD-4D23-B53B-FA92A553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9B1-D3DA-4C44-9466-735BA6DC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CDB-503F-44BF-82E0-CDB620D3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563-8D06-494B-AC9B-88CA103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CF31-AAEC-4BDA-9C06-C1CCFA993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97240" y="1401840"/>
            <a:ext cx="249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621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7200" y="853920"/>
            <a:ext cx="51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Szolgáltatásain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8520" y="2602080"/>
            <a:ext cx="54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ektetési tanács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lalatirányító rendszerek telep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05:30Z</dcterms:created>
  <dc:creator>.</dc:creator>
  <dc:description/>
  <dc:language>en-US</dc:language>
  <cp:lastModifiedBy>.</cp:lastModifiedBy>
  <dcterms:modified xsi:type="dcterms:W3CDTF">2003-05-25T15:10:26Z</dcterms:modified>
  <cp:revision>6</cp:revision>
  <dc:subject/>
  <dc:title>PowerPoint bemutató</dc:title>
</cp:coreProperties>
</file>