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575-2814-455C-8EA7-9DE14F6A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DD2-4F1C-4074-8F03-5E440D1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617-D8B9-442F-9343-0CB7511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C7C-9DBF-4725-BF44-D95AD5C8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C89-C485-4BA8-9CA3-8066C62D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E97-4788-415C-9BB3-B5757C6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3D6-3840-490C-9E5B-E147EFD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BDA-63A5-42EA-AB70-99B8F09E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F3F-5A3F-428A-AD72-27F47DF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837-4458-455F-A1D1-285E0957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4F5-FF77-44D4-A341-DD1B2EB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AC5-F58B-4AF5-B1C6-D26F06CE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644-C20A-4C23-817F-C37519D39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.</dc:creator>
  <dc:description/>
  <dc:language>en-US</dc:language>
  <cp:lastModifiedBy>.</cp:lastModifiedBy>
  <dcterms:modified xsi:type="dcterms:W3CDTF">2003-05-25T15:37:49Z</dcterms:modified>
  <cp:revision>6</cp:revision>
  <dc:subject/>
  <dc:title>PowerPoint bemutató</dc:title>
</cp:coreProperties>
</file>