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1AF-B612-4B50-93A1-68990A18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526-595A-4E35-9676-E3DB52B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FEE-BFA4-40AB-ADA0-B082D995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3B7-C468-4AD4-AC9F-D79DF462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7D4-FF5E-4AB9-8839-298307E5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12E-7498-4A8A-A909-ED8EAE5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72F-0862-459D-9287-B833DC59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71F-C03D-45D2-B702-AC53602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A8C-7239-49B2-BFB1-999ED538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840-C362-4D4C-922C-8A55798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8EF-E0ED-4EDC-87CA-6E1D181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D89-BAE9-48FD-A340-1180724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1C4-6C30-43C9-8CCF-CBC76FEA5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09:09Z</dcterms:created>
  <dc:creator>.</dc:creator>
  <dc:description/>
  <dc:language>en-US</dc:language>
  <cp:lastModifiedBy>.</cp:lastModifiedBy>
  <dcterms:modified xsi:type="dcterms:W3CDTF">2003-05-26T20:13:51Z</dcterms:modified>
  <cp:revision>4</cp:revision>
  <dc:subject/>
  <dc:title>PowerPoint bemutató</dc:title>
</cp:coreProperties>
</file>