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77F-CA85-4F5B-82F1-A18FCF89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B92-B65E-4DEA-A64C-6446EF9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A82-611E-4B38-B192-DB137B1A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5FB-C172-4B5A-90C9-3B3FA3EC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781-6108-4647-B3BC-4F66E7FC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AFD-BD68-4F46-9C5E-598EF1E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817-FE5F-4438-A051-B29BCE6E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1B9-00B6-4089-B630-A8926BA2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EE7-838E-4E12-8522-2A32537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458-DAB7-45DC-9BD1-3A6E0D0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C55-9588-4FBB-B4AF-10B3068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056-04F7-4186-89E8-CCF5A3A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A18B-C1FC-4F1E-8C09-B05ABC79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.</dc:creator>
  <dc:description/>
  <dc:language>en-US</dc:language>
  <cp:lastModifiedBy>.</cp:lastModifiedBy>
  <dcterms:modified xsi:type="dcterms:W3CDTF">2003-05-03T17:35:29Z</dcterms:modified>
  <cp:revision>4</cp:revision>
  <dc:subject/>
  <dc:title>PowerPoint bemutató</dc:title>
</cp:coreProperties>
</file>