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DBC3-16D2-41B5-A130-D062EF90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08A-DD4F-43D8-9C75-7A44D540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C0E-1F4B-40FD-B3A8-F112B054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2B7-5F0C-4344-9B8B-449F8A58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57F-A688-428B-9342-8CCCFA42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134-E102-46CF-B1C6-4515337C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079-04E2-4C28-9F64-46D0A3CA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F16-7288-400F-AC9D-D56A658F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9BA-1E07-4C6C-9EF6-38851C9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C02-476C-42D4-8EFA-ACCE5265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C22-1092-47D1-A04E-51A019D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CB0-492E-4F94-9568-568B85D4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751-2182-483A-AFE0-E81C0DB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B936-7A48-458A-8F3B-B79FE9BE5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.</dc:creator>
  <dc:description/>
  <dc:language>en-US</dc:language>
  <cp:lastModifiedBy>.</cp:lastModifiedBy>
  <dcterms:modified xsi:type="dcterms:W3CDTF">2003-05-04T16:47:30Z</dcterms:modified>
  <cp:revision>5</cp:revision>
  <dc:subject/>
  <dc:title>Minőségbiztosítás</dc:title>
</cp:coreProperties>
</file>